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564-27F4-48A5-8ACF-F871432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621-3DA7-475A-B65E-A38B1154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A7F-98A9-4698-A0E9-4F4B1FBA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E79-559B-4931-AC3D-5C027954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6C2-5BDD-4DDB-A039-F41DFACC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B54C-B5D2-4D63-9BE6-29A3C8F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8BA2-0635-43AB-BCD9-2FEAF47D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3480-6F7B-4040-8FD8-4BAA2F4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230-9C3F-4CF3-8BCC-120F202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F35-638E-422B-9B6E-764C762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367-2985-463A-8FCD-AFFDA0A9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19E-0BCC-44D4-AB8D-D15E47E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A969-ACAD-42AD-B4C7-B9E9ED56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E4D1-0930-4558-8A00-14A8D21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5F4-4E0C-44F2-8076-E70B6B0A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575-86F3-4AF9-A9CA-C9550929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281-7A0A-4211-9830-7A095154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735-565A-4224-8CA8-543A2D0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62D-84F7-4E89-8C0B-7962F86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A62-BE7D-45BC-A319-319ED1C2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AFA-7A32-489E-B92F-DB86DB0B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05C-3D46-44BC-98C3-CFF3187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840-33CF-4B86-B84A-8795299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7DB-BAEA-4CD1-92FE-8E50A42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730-C16B-4C84-8C6F-27EA0D25A3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B21-BBC1-4E89-B65D-BD64201036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25-26 March 201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AD content &amp; format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AD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BWR to ETA &amp;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llowing a request of a manufacturer, role comparable to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s agreed, assessment tools for performance of products not covered by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to be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pecific provisions to note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1(1)(b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cope of appl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4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ource of ru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66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use of ETAGs as EAD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tructure/elements of EAD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cope/General description (+ AVoC link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Intended us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ssential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ssessment methods &amp; criteria (tabl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PC princip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kkeap</cp:lastModifiedBy>
  <cp:lastPrinted>2012-11-29T14:44:58Z</cp:lastPrinted>
  <dcterms:modified xsi:type="dcterms:W3CDTF">2013-03-22T14:41:25Z</dcterms:modified>
  <cp:revision>177</cp:revision>
  <dc:subject/>
  <dc:title>Slide 1</dc:title>
</cp:coreProperties>
</file>