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5EA-6FDB-4083-B30C-88ADE467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1F1-8853-4664-98D1-7BBBEE8C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A9B-D387-4128-A986-666D5FB2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30C-1D76-4B1F-BA20-50CEA76F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F135-DA37-43BE-B4AE-3F246D22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4C38-3515-4B43-B61F-F3E2E111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F281-8721-4BAA-BC99-F2BF73E8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59FF-E0A9-433E-B683-1AC28D39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421E-02A7-4EAA-84BC-77083996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7642-7779-45A3-BE18-6C74EAB9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FCDB-EC0D-446F-B545-4171E683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1CB-FAF5-4A12-B347-629742A5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7A88-D26B-4B4A-9480-DBAEFBA3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0C3E-8B37-4BDB-A791-B4FDD597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76DA-E67F-40E9-8690-4FED3FBC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7436-9098-4E4E-BBCA-7D317031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D42C-268A-4E4C-8ED7-B8DBB044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0CC-B10E-4D6A-9141-4678C3EC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A2B-A766-4404-8585-EBE3DB64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62B-26C0-477B-B769-D2B06F89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C20-AF19-4D4E-8D79-8CB25967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B54-185C-4034-ACC1-7BA462A1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86B-4CF3-437F-B625-976E0478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D09-EAD2-49CC-9636-4C3CF371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1DB8-683E-406D-BAFA-09074E23E6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62400" y="6686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8E99-0E46-41D4-9C6D-31938B106D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euflag"/>
          <p:cNvPicPr/>
          <p:nvPr/>
        </p:nvPicPr>
        <p:blipFill>
          <a:blip r:embed="rId1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539640" y="2781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PR SC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ussels, 3 December 2012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MS &amp; DoP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endParaRPr b="1" lang="en-US" sz="7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bluebullet"/>
          <p:cNvPicPr/>
          <p:nvPr/>
        </p:nvPicPr>
        <p:blipFill>
          <a:blip r:embed="rId2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bluebullet"/>
          <p:cNvPicPr/>
          <p:nvPr/>
        </p:nvPicPr>
        <p:blipFill>
          <a:blip r:embed="rId3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bluebullet"/>
          <p:cNvPicPr/>
          <p:nvPr/>
        </p:nvPicPr>
        <p:blipFill>
          <a:blip r:embed="rId4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bluebullet"/>
          <p:cNvPicPr/>
          <p:nvPr/>
        </p:nvPicPr>
        <p:blipFill>
          <a:blip r:embed="rId5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luebullet"/>
          <p:cNvPicPr/>
          <p:nvPr/>
        </p:nvPicPr>
        <p:blipFill>
          <a:blip r:embed="rId6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luebullet"/>
          <p:cNvPicPr/>
          <p:nvPr/>
        </p:nvPicPr>
        <p:blipFill>
          <a:blip r:embed="rId7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250920" y="4941720"/>
            <a:ext cx="88930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pani Mikkeli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Commission,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ate-General Enterprise and Industry</a:t>
            </a:r>
            <a:br>
              <a:rPr sz="1800"/>
            </a:b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B1, sector 01: Sustainable construc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f5494"/>
                </a:solidFill>
                <a:latin typeface="Verdana"/>
              </a:rPr>
              <a:t>For more information</a:t>
            </a:r>
            <a:endParaRPr b="1" lang="en-US" sz="3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3068640"/>
            <a:ext cx="8893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f5494"/>
                </a:solidFill>
                <a:latin typeface="Verdana"/>
              </a:rPr>
              <a:t>e-mail: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     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construction@ec.europa.eu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-17496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Tapani.Mikkeli@ec.europa.eu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58920" y="4437000"/>
            <a:ext cx="8785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http</a:t>
            </a:r>
            <a:r>
              <a:rPr b="1" i="1" lang="fr-BE" sz="1800" spc="-1" strike="noStrike">
                <a:solidFill>
                  <a:srgbClr val="0f5494"/>
                </a:solidFill>
                <a:latin typeface="Verdana"/>
              </a:rPr>
              <a:t>://ec.europa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.eu/enterprise/construction/index_en.htm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Towards uniform application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ternal Market: Free circul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lready Art 34 – 36 TFEU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Harmonisation to enhance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nufacturers require certain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en products legally placed on the market, within free circul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o additional obstac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istinction "substance" / procedur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ontent of requirements / method of setting them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Roles and responsibilities of different actors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nufacturers (&amp; importers)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ccurate and reliable information on perform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nstructions &amp; safety information 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istributor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ceiving and forwarding the relevant informatio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Users of construction products: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sponsibility for their appropriate us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This cannot be rolled over to economic operators!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Requirements by MS [I]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ully compatible where for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u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rt 8(4) also linking requirements with us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tural context: impact on works, BWR et 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rt:s 8(3)&amp;(6), 17(5)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in fine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: Through hEN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here in place, compliance demonstrated only by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DoP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(Art 4(2)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or such products, resort to Art 5 excluded when used for such purpos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Requirements by MS [II]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king available on the market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??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f linked to use, cf. above;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if not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?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reating obstacles to free circul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esides, risk / hazard / danger?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f not linked to use, general: caused by the product as such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ot exclusively concerning construction produ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herefore treated by other legislation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01800"/>
            <a:ext cx="75610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Comparisons with mutual recognition (Art 34 – 36 TFEU)</a:t>
            </a:r>
            <a:br>
              <a:rPr sz="36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06640" y="2852280"/>
            <a:ext cx="747072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f legally marketed in other MS, why not here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p to MS to demonstrate reason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f general &amp; inherent danger, why allowed elsewhere?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hy should CPR entail wider competences for MS within the harmonised sphere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f. recent Art 34 – 36 ECJ jud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-171/11 (Fra.Bo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-385/10 (Elenca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Conclusions on requirements by MS 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3152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Only for use, not for making available on the market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Latter constituting Art 8(4) –obstac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rt 6(3)(e) does not make a difference here: "taking into account" only!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o legal base for MS to set additional new obligations for manufacturer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unctioning of the system necessitates uniform procedures &amp; procedural ru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eating legal certainty for manufacture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Distinguishable situations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f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ll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MS were to set exactly the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ame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requirements for making available on the market, no obstacles (Art 8(4)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However, for EU-wide needs Art 3(3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f Art 3(3) applied, legal requirement in place for manufacturer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gain Art 4(2), DoP only way to demonstra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rt 6(3)(d) obliging manufacturers to declar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herefore, resort to Art 5 exclud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Verdana"/>
              </a:rPr>
              <a:t>MS not to regulate over CPR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PR contains all necessary rules about the obligations of manufacturer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S not to change this whol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therwise, uniform application threatened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nsequence: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Not allowed for MS to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hoose the characteristics to be declared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Limit the scope of application of Art 5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(if not through requirements for use)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katsage</cp:lastModifiedBy>
  <cp:lastPrinted>2012-11-29T14:44:58Z</cp:lastPrinted>
  <dcterms:modified xsi:type="dcterms:W3CDTF">2012-11-30T09:53:50Z</dcterms:modified>
  <cp:revision>171</cp:revision>
  <dc:subject/>
  <dc:title>Slide 1</dc:title>
</cp:coreProperties>
</file>