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213-A185-4A90-9796-336F471F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3124-404B-48A3-B559-3940CFEA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958-378D-49E5-B99B-D2455F51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8605-8E93-46F0-AED4-AE11A572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EC14-EAEA-4F1C-9929-13CD9BC1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FAD2-FACC-4659-BB1D-97513BDC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ACCA-0895-40A8-891A-AC18E8F7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FD6A-7C2C-49F3-86E2-B8588E98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2514-0F74-44FE-994D-CB0F956B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F4FC-831F-4960-9AFE-9894E52F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ED13-45D0-45A9-9B9E-5641CB41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BF2-F93A-4FE8-B467-8E119EE1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F0CA-AA3D-426D-9F0F-2596929D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2115-87CE-4CFE-81BF-1AA44C4A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C369-F350-4D3E-BE23-4BFE2C88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2286-2006-44E1-8F20-1BE4AA95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D8D8-3A4F-4C72-8439-3C3D9569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E42-B061-43C3-83B1-FF89CB1B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22E-8B91-4F8D-8A93-FEF8B0A7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7DB-9D37-4C86-9FDA-7C344B02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F84-A030-40F4-8D54-A50FDFED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51B-415B-4BB1-B6EA-3E095C08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2DD-3DDB-4CCF-A90D-71850EBF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ED3-E398-421B-A3A4-3F77AC3D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BC23-8DA9-4456-A305-23785FD7FF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112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4262400" y="6686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37000"/>
            <a:ext cx="28958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7A93-473D-425C-9587-2DBB73A1C9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16000" y="1484280"/>
            <a:ext cx="691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euflag"/>
          <p:cNvPicPr/>
          <p:nvPr/>
        </p:nvPicPr>
        <p:blipFill>
          <a:blip r:embed="rId1"/>
          <a:stretch/>
        </p:blipFill>
        <p:spPr>
          <a:xfrm>
            <a:off x="4067280" y="333360"/>
            <a:ext cx="914400" cy="612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539640" y="278136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CPR SC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ussels, 3 December 2012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95280" y="14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TA format </a:t>
            </a:r>
            <a:r>
              <a:rPr b="1" lang="fr-FR" sz="7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 </a:t>
            </a:r>
            <a:endParaRPr b="1" lang="en-US" sz="7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" name="Picture 6" descr="bluebullet"/>
          <p:cNvPicPr/>
          <p:nvPr/>
        </p:nvPicPr>
        <p:blipFill>
          <a:blip r:embed="rId2"/>
          <a:stretch/>
        </p:blipFill>
        <p:spPr>
          <a:xfrm>
            <a:off x="-4365720" y="30481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bluebullet"/>
          <p:cNvPicPr/>
          <p:nvPr/>
        </p:nvPicPr>
        <p:blipFill>
          <a:blip r:embed="rId3"/>
          <a:stretch/>
        </p:blipFill>
        <p:spPr>
          <a:xfrm>
            <a:off x="-4365720" y="320040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bluebullet"/>
          <p:cNvPicPr/>
          <p:nvPr/>
        </p:nvPicPr>
        <p:blipFill>
          <a:blip r:embed="rId4"/>
          <a:stretch/>
        </p:blipFill>
        <p:spPr>
          <a:xfrm>
            <a:off x="-4429080" y="263700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bluebullet"/>
          <p:cNvPicPr/>
          <p:nvPr/>
        </p:nvPicPr>
        <p:blipFill>
          <a:blip r:embed="rId5"/>
          <a:stretch/>
        </p:blipFill>
        <p:spPr>
          <a:xfrm>
            <a:off x="-4365720" y="35053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luebullet"/>
          <p:cNvPicPr/>
          <p:nvPr/>
        </p:nvPicPr>
        <p:blipFill>
          <a:blip r:embed="rId6"/>
          <a:stretch/>
        </p:blipFill>
        <p:spPr>
          <a:xfrm>
            <a:off x="-4365720" y="380988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bluebullet"/>
          <p:cNvPicPr/>
          <p:nvPr/>
        </p:nvPicPr>
        <p:blipFill>
          <a:blip r:embed="rId7"/>
          <a:stretch/>
        </p:blipFill>
        <p:spPr>
          <a:xfrm>
            <a:off x="-4365720" y="3962520"/>
            <a:ext cx="123840" cy="95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284040" y="4941720"/>
            <a:ext cx="889344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pani Mikkeli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an Commission,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ate-General Enterprise and Industry</a:t>
            </a:r>
            <a:br>
              <a:rPr sz="1800"/>
            </a:b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B1, sector 01: Sustainable construc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561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Structure of implementing act</a:t>
            </a:r>
            <a:br>
              <a:rPr sz="36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mmission Implementing Regulation (?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emplate to follow general mod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ream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eferences to legal bas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nstructions / explanation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hort main text (Articl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ormat itself as Annex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561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Process &amp; timeframes</a:t>
            </a:r>
            <a:br>
              <a:rPr sz="36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6000" y="2536560"/>
            <a:ext cx="747072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efore 01 July 2013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iscussions with different stakeholder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CC March(?): first draft text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n 01 &amp; 02 July 2013 [tbc], SCC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Formal consultation of MS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mmission internal procedure [x weeks]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ecision-making in EC [y weeks]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ublication in OJEU [w days after]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ntry into force [z days after]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f5494"/>
                </a:solidFill>
                <a:latin typeface="Verdana"/>
              </a:rPr>
              <a:t>For more information</a:t>
            </a:r>
            <a:endParaRPr b="1" lang="en-US" sz="3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3068640"/>
            <a:ext cx="8893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0f5494"/>
                </a:solidFill>
                <a:latin typeface="Verdana"/>
              </a:rPr>
              <a:t>e-mail: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     Tapani.Mikkeli@ec.europa.eu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58920" y="4437000"/>
            <a:ext cx="87850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f5494"/>
                </a:solidFill>
                <a:latin typeface="Verdana"/>
              </a:rPr>
              <a:t>http</a:t>
            </a:r>
            <a:r>
              <a:rPr b="1" i="1" lang="fr-BE" sz="1200" spc="-1" strike="noStrike">
                <a:solidFill>
                  <a:srgbClr val="0f5494"/>
                </a:solidFill>
                <a:latin typeface="Verdana"/>
              </a:rPr>
              <a:t>://ec.europa</a:t>
            </a:r>
            <a:r>
              <a:rPr b="1" i="1" lang="en-GB" sz="1200" spc="-1" strike="noStrike">
                <a:solidFill>
                  <a:srgbClr val="0f5494"/>
                </a:solidFill>
                <a:latin typeface="Verdana"/>
              </a:rPr>
              <a:t>.eu/enterprise/construction/index_en.htm</a:t>
            </a:r>
            <a:r>
              <a:rPr b="1" i="1" lang="en-US" sz="12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413000"/>
            <a:ext cx="8459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698480"/>
                <a:tab algn="l" pos="22352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1" lang="fr-FR" sz="3900" spc="-1" strike="noStrike">
                <a:solidFill>
                  <a:srgbClr val="0f5494"/>
                </a:solidFill>
                <a:latin typeface="Verdana"/>
              </a:rPr>
              <a:t>Implementing act, Art 26(3)</a:t>
            </a:r>
            <a:r>
              <a:rPr b="0" lang="en-GB" sz="3900" spc="-1" strike="noStrike">
                <a:solidFill>
                  <a:srgbClr val="0f5494"/>
                </a:solidFill>
                <a:latin typeface="Verdana"/>
              </a:rPr>
              <a:t>           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2797200"/>
            <a:ext cx="8748720" cy="32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"In order to ensure the uniform implementation" of CP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"to establish the format" of ETA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With the consultation of SCC-CP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cedures pursuant to Regulation (EU) 182/2011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Function of ETA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3152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ridging EAD to DoP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roviding the sufficient support for manufacturers when drawing up DoP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ccurate &amp; reliable data on performance as agre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oles clear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AD to contain the rules to be follow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oP to deliver accurate inform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TA in between: based on rules in EAD, creating the agreed and necessary data for DoP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Draft contents of ETA</a:t>
            </a:r>
            <a:r>
              <a:rPr b="0" lang="en-GB" sz="3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3152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General fram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ases (CPR + respective EAD [ETAG]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VCP references?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roduct descrip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ith intended us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erformance information (in table, cf. DoP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PC specifics (if necessary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561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General framework</a:t>
            </a:r>
            <a:br>
              <a:rPr sz="3600"/>
            </a:b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Notably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AB identific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TA numbe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cation of product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cation of manufacturer / pla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2040" y="1413000"/>
            <a:ext cx="81406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Legal bases &amp; sources of rules</a:t>
            </a:r>
            <a:br>
              <a:rPr sz="3600"/>
            </a:b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Notably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PR as generic referen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AD [ETAG] having been appli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VCP reference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Withdrawal?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2040" y="1413000"/>
            <a:ext cx="81406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Product description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echnical description of the produc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o determine the object assess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tended use(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stallation instruc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orresponding to EAD ru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Life cycle estimation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561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Performance information</a:t>
            </a:r>
            <a:br>
              <a:rPr sz="3600"/>
            </a:b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f. DoP, Annex III point 9.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erformance information in a ta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y essential characteristic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nd presenting the outcome of the assess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561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Specifics on FPC</a:t>
            </a:r>
            <a:br>
              <a:rPr sz="3600"/>
            </a:b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 rules ("principles", cf. Art 24(2)) in EAD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Here only "necessary technical details"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ifferentiation between product-types or manufacturing pla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nfidentiality concern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lapszjo</cp:lastModifiedBy>
  <dcterms:modified xsi:type="dcterms:W3CDTF">2012-11-21T14:26:30Z</dcterms:modified>
  <cp:revision>158</cp:revision>
  <dc:subject/>
  <dc:title>Slide 1</dc:title>
</cp:coreProperties>
</file>