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ty, date September 2008, Seminar on the Free movement of goods in the EU and EF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7468-ECAD-4EBA-9D58-292B13528F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ty, date September 2008, Seminar on the Free movement of goods in the EU and EF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5fa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Signature-ENTR_EN_black"/>
          <p:cNvPicPr/>
          <p:nvPr/>
        </p:nvPicPr>
        <p:blipFill>
          <a:blip r:embed="rId3"/>
          <a:stretch/>
        </p:blipFill>
        <p:spPr>
          <a:xfrm>
            <a:off x="6877080" y="6308640"/>
            <a:ext cx="1700280" cy="2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ur-lex.europa.eu/LexUriServ/LexUriServ.do?uri=OJ:L:2008:218:0021:0029:EN:PDF" TargetMode="External"/><Relationship Id="rId3" Type="http://schemas.openxmlformats.org/officeDocument/2006/relationships/hyperlink" Target="http://eur-lex.europa.eu/LexUriServ/LexUriServ.do?uri=OJ:L:2008:218:0021:0029:EN:PDF" TargetMode="External"/><Relationship Id="rId4" Type="http://schemas.openxmlformats.org/officeDocument/2006/relationships/hyperlink" Target="http://ec.europa.eu/enterprise/regulation/goods/mutrec_en.htm" TargetMode="External"/><Relationship Id="rId5" Type="http://schemas.openxmlformats.org/officeDocument/2006/relationships/hyperlink" Target="http://ec.europa.eu/enterprise/regulation/goods/mutrec_en.htm" TargetMode="External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1"/>
          <p:cNvSpPr/>
          <p:nvPr/>
        </p:nvSpPr>
        <p:spPr>
          <a:xfrm>
            <a:off x="1692360" y="6237360"/>
            <a:ext cx="48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Podgorica, 24 September 2008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eminar on Free movement of  goods in the EU and EF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Background PPT DG ENTR v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838080" y="1981080"/>
            <a:ext cx="7981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he Mutual Recognition Reg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042920" y="4292640"/>
            <a:ext cx="7485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s. Idaira ROBAYNA ALFON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ussels, 11 Nov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Signature-ENTR_EN_black"/>
          <p:cNvPicPr/>
          <p:nvPr/>
        </p:nvPicPr>
        <p:blipFill>
          <a:blip r:embed="rId3"/>
          <a:stretch/>
        </p:blipFill>
        <p:spPr>
          <a:xfrm>
            <a:off x="250920" y="5950080"/>
            <a:ext cx="350496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80880" y="233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Ind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24000" y="1413000"/>
            <a:ext cx="851508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is Mutual recognition- Backg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s with Mutual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ck of awar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gal uncertain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sk of not getting access to the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sence of dialo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Mutual Recognition Regulation 764/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eneral princi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ossible denial of Mutual recognition: conditions and ste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380880" y="130032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916280"/>
            <a:ext cx="6192720" cy="504720"/>
          </a:xfrm>
          <a:prstGeom prst="rect">
            <a:avLst/>
          </a:prstGeom>
          <a:noFill/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Problems with Mutual Recognition in the non-harmonised area of products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Lack of awareness of the princip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businesses and administ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Legal uncertain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bo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 the scope of the principle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) the burden of pro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usinesses and administ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Risk of not getting access to market in another Member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St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busines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The absence of a dialogue between authorit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administ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380880" y="16002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- problems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988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1.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Lack of awareness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National rul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ive the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impress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hat they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always prev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⇒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Businesses and administrations take the national      rule for gra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utual recognition is a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concept developed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jurisprudence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of the Court of justic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on Articles 28 and 30 EC Trea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⇒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Few people are familiar with mutual recogn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16000" y="2781360"/>
            <a:ext cx="6985080" cy="79200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332000" y="5229360"/>
            <a:ext cx="6408720" cy="79200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395280" y="11970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- problems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2.</a:t>
            </a: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Legal uncertainty about scope and burden of pro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Scope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products are cove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despread legal uncertainty about the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burden of proo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bundant jurisprudence of the Court of Justice requires specialised leg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⇒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National administrations and businesses take a very cautious attitu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826920" y="5084640"/>
            <a:ext cx="7128000" cy="79236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395280" y="11970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- problems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669900"/>
                </a:solidFill>
                <a:latin typeface="Arial"/>
              </a:rPr>
              <a:t>3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. 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The risk for businesses in another Member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Difficul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businesses 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to know</a:t>
            </a:r>
            <a:r>
              <a:rPr b="0" lang="en-GB" sz="24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5fa9"/>
                </a:solidFill>
                <a:uFillTx/>
                <a:latin typeface="Arial"/>
              </a:rPr>
              <a:t>if, h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GB" sz="24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5fa9"/>
                </a:solidFill>
                <a:uFillTx/>
                <a:latin typeface="Arial"/>
              </a:rPr>
              <a:t>when</a:t>
            </a:r>
            <a:r>
              <a:rPr b="0" lang="en-GB" sz="24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tual recognition will be 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⇒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Risk avoidance through dialogue (negotiations?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with administration of Member State of destination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826920" y="4437000"/>
            <a:ext cx="7417080" cy="86364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95280" y="11970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- problems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669900"/>
                </a:solidFill>
                <a:latin typeface="Arial"/>
              </a:rPr>
              <a:t>4. 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The absence of dialogue between competent author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Lack of common addr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ook for 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authorities</a:t>
            </a:r>
            <a:r>
              <a:rPr b="0" lang="en-GB" sz="24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wish 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to conta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ir colleagues in another Member State where the product is lawfully marke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⇒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Difficult for competent authorities to identify and  contact their colleagues in other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55640" y="4365720"/>
            <a:ext cx="7777080" cy="93636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95280" y="11970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Ind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24000" y="1484280"/>
            <a:ext cx="851508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is Mutual recognition- Backg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s with Mutual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ck of awar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gal uncertain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sk of not getting access to the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sence of dialo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Mutual Recognition Regulation 764/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eneral princi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ossible denial of Mutual recognition: conditions and ste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380880" y="13716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4365720"/>
            <a:ext cx="6840720" cy="576000"/>
          </a:xfrm>
          <a:prstGeom prst="rect">
            <a:avLst/>
          </a:prstGeom>
          <a:noFill/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064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GB" sz="3000" spc="-1" strike="noStrike" u="sng">
                <a:solidFill>
                  <a:srgbClr val="669900"/>
                </a:solidFill>
                <a:uFillTx/>
                <a:latin typeface="Arial"/>
              </a:rPr>
              <a:t>Summary of the Reg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Denial of mutual recognition</a:t>
            </a: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becomes the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exception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 of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rights and obliga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urden of proo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 receiving Memb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ght  deadlin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receiving Memb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Product Contact Poi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Member States will provide information to enterprises and competent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l Decision 3052/95/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Indicative list of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247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9"/>
                </a:solidFill>
                <a:latin typeface="Arial"/>
              </a:rPr>
              <a:t>Chapter 1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. Subject-matter and sc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Chapter 2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. The possible application of a       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   technical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Chapter 3</a:t>
            </a:r>
            <a:r>
              <a:rPr b="0" lang="en-GB" sz="3200" spc="-1" strike="noStrike">
                <a:solidFill>
                  <a:srgbClr val="005fa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 Product Contac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Chapter 4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. Final pro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- Chapter 1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Administrative decision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5fa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ressed to economic oper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5fa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rectly or indirectly denying access to the mark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5fa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sed on a « technical rule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ial of market access -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effect of the decis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ification (1 or + characteris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tional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drawal of a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Index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150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is Mutual recognition- Backg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s with Mutual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ck of awar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gal uncertain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sk of not getting access to the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sence of dialo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Mutual Recognition Regulation 764/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eneral princi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ossible denial of Mutual recognition: conditions and ste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380880" y="13716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1484280"/>
            <a:ext cx="6192720" cy="576360"/>
          </a:xfrm>
          <a:prstGeom prst="rect">
            <a:avLst/>
          </a:prstGeom>
          <a:noFill/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918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fa9"/>
                </a:solidFill>
                <a:latin typeface="Arial"/>
              </a:rPr>
              <a:t>Technical rul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law, regulation or other national ru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ject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C harmonis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hibiting or restric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marketing of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lawfully marke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another Member State due to its characteristics (performance, safety, marking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gulation </a:t>
            </a:r>
            <a:r>
              <a:rPr b="1" lang="en-GB" sz="2200" spc="-1" strike="noStrike">
                <a:solidFill>
                  <a:srgbClr val="005fa9"/>
                </a:solidFill>
                <a:latin typeface="Arial"/>
              </a:rPr>
              <a:t>does not apply to decisions of judicial natu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aken b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ional cour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w enforcement authorit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certain types of criminal offences (e.g. racism, xenophob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3716280"/>
            <a:ext cx="8363160" cy="220968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specifications drawn up for public procurement procedures not constitute technical rules within the meaning of this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7848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does not app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railway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drawal of dangerous products under G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drawal of food and feed in order to protect human health and requiring rapid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measures for food and 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s regarding non-compliance with EU food and feed la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- Chapter 2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371240"/>
            <a:ext cx="82234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Mutual recognition = basic ru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EC Trea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h actual and possible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denial of mutual recognition governed by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sible denial of mutual recogni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igation for national authorities to start 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dialogue</a:t>
            </a:r>
            <a:r>
              <a:rPr b="0" lang="en-GB" sz="24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economic operator and to follow the procedural requirements established by the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09480" y="5029200"/>
            <a:ext cx="8066160" cy="114300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4114800" y="4572000"/>
            <a:ext cx="216000" cy="399960"/>
          </a:xfrm>
          <a:prstGeom prst="downArrow">
            <a:avLst>
              <a:gd name="adj1" fmla="val 50000"/>
              <a:gd name="adj2" fmla="val 46292"/>
            </a:avLst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669900"/>
                </a:solidFill>
                <a:uFillTx/>
                <a:latin typeface="Arial"/>
              </a:rPr>
              <a:t>Possible denial of mutual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Step 1: MS intends to adopt decision to deny MR</a:t>
            </a:r>
            <a:r>
              <a:rPr b="0" lang="en-GB" sz="3000" spc="-1" strike="noStrike">
                <a:solidFill>
                  <a:srgbClr val="005fa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ten notic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economic oper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pecifying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echnical r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etting ou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technical or scientific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evidenc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the intended decision is justified by overriding reason of public intere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no less trade-restrictive measure can be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nd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is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ust b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d 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racteristics or type of produ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569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669900"/>
                </a:solidFill>
                <a:uFillTx/>
                <a:latin typeface="Arial"/>
              </a:rPr>
              <a:t>Possible denial of mutual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Step 2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: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economic operator can submit comments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in time limit set out in written not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Step 3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: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assessment of comments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f 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918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Step 4: decision by public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9900"/>
                </a:solidFill>
                <a:latin typeface="Arial"/>
              </a:rPr>
              <a:t>Positive</a:t>
            </a:r>
            <a:r>
              <a:rPr b="0" lang="en-GB" sz="2400" spc="-1" strike="noStrike">
                <a:solidFill>
                  <a:srgbClr val="6699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conomic operator must be informed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9900"/>
                </a:solidFill>
                <a:latin typeface="Arial"/>
              </a:rPr>
              <a:t>Negative</a:t>
            </a:r>
            <a:r>
              <a:rPr b="0" lang="en-GB" sz="2400" spc="-1" strike="noStrike">
                <a:solidFill>
                  <a:srgbClr val="6699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be notified to economic operator and EC within 20 (or 40) working days following expiry of deadline for receipt of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take account of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state all the reasons on which it is based (e.g. reasons for rejecting arguments, technical and scientific evidence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specify national reme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9900"/>
                </a:solidFill>
                <a:latin typeface="Arial"/>
              </a:rPr>
              <a:t>No decis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in 20 (or 40) working days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sumption of lawful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669900"/>
                </a:solidFill>
                <a:uFillTx/>
                <a:latin typeface="Arial"/>
              </a:rPr>
              <a:t>Possible denial of mutual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Competent authorities mu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mediately infor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conomic operator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echnical or scientific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ific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eir decision on the grounds of Article 30 or mandatory requirements recognised by EC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 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064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5fa9"/>
                </a:solidFill>
                <a:uFillTx/>
                <a:latin typeface="Arial"/>
              </a:rPr>
              <a:t>Temporary suspension of marke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Competent authorities may only suspend  market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duct poses 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erious risk to the safe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health of  users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rketing of the product is generally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rohibi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at Member State on grounds of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ublic mora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public secu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Competent authorities mu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mediately info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conomic operator and 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vi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echnical or scientif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stif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their deci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- Chapter 3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669900"/>
                </a:solidFill>
                <a:uFillTx/>
                <a:latin typeface="Arial"/>
              </a:rPr>
              <a:t>Product Contact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mber States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ust designat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at least one Product Contact Point and inform EC &amp; 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mber States are free to entrust the role of Product Contact Point to</a:t>
            </a:r>
            <a:r>
              <a:rPr b="1" lang="en-GB" sz="26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new or existing private or public bod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Task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to be performed upon request and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free of charg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ithin 15 working d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395280" y="134136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What is mutual recognition?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1342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method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nsuring free movement of good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non-harmonised</a:t>
            </a:r>
            <a:r>
              <a:rPr b="1" lang="fr-BE" sz="3000" spc="-1" strike="noStrike" u="sng">
                <a:solidFill>
                  <a:srgbClr val="000000"/>
                </a:solidFill>
                <a:uFillTx/>
                <a:latin typeface="Arial"/>
              </a:rPr>
              <a:t> area</a:t>
            </a: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thin</a:t>
            </a: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 the EU (articles 28 and 30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C Trea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means of ensuring an optimal functioning of the Internal Mark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merged out of the Court of Justice’s famous “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Cassis de Dijon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Judgement (197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250920" y="112536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669900"/>
                </a:solidFill>
                <a:uFillTx/>
                <a:latin typeface="Arial"/>
              </a:rPr>
              <a:t>Product Contac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Task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Provide technical rules applicabl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a specific type of product in that Member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Advise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ether the product is subject to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prior authoris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ive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contact detail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competent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Describe remedi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enerally available in the national territory in the event of a dispute between competent authorities and economic ope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- Chapter 4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2090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669900"/>
                </a:solidFill>
                <a:uFillTx/>
                <a:latin typeface="Arial"/>
              </a:rPr>
              <a:t>Final pro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Reporting obligations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 States must send the Commission a yearly report on the application of the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rting by the Commission to EP and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Non-exhaustive list of produc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are not subject to EC harmo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Repeal Decision 3052/95/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will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apply from 13 Ma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395280" y="134136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 u="sng">
                <a:solidFill>
                  <a:srgbClr val="005fa9"/>
                </a:solidFill>
                <a:uFillTx/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Regulation does not prevent harmonisa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national technical rules on specific categories of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the text of the Regulation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ur-lex.europa.eu/LexUriServ/LexUriServ.do?uri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OJ:L:2008:218:0021:0029:EN: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more information please visit</a:t>
            </a:r>
            <a:r>
              <a:rPr b="0" lang="en-GB" sz="2800" spc="-1" strike="noStrike">
                <a:solidFill>
                  <a:srgbClr val="6699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c.europa.eu/enterprise/regulation/goods/mutrec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atten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3240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principle of Mutual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80880" y="1746360"/>
            <a:ext cx="842508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it consist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l r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rticle 28 – free movement of goo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rticle 30 – justified and proportionate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restri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304920" y="1371600"/>
            <a:ext cx="84247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5092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principle of Mutual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79280" y="1341360"/>
            <a:ext cx="87361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669900"/>
                </a:solidFill>
                <a:latin typeface="Arial"/>
              </a:rPr>
              <a:t>A general rule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 (Article 28 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M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nnot prohibit or restri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lawfully market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other M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 u="sng">
                <a:solidFill>
                  <a:srgbClr val="669900"/>
                </a:solidFill>
                <a:uFillTx/>
                <a:latin typeface="Arial"/>
              </a:rPr>
              <a:t>even i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ere ar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differen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tween the various national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doe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ntail a comparison between technical rules of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900000" y="2276640"/>
            <a:ext cx="7775640" cy="2304720"/>
          </a:xfrm>
          <a:prstGeom prst="rect">
            <a:avLst/>
          </a:prstGeom>
          <a:noFill/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250920" y="1268280"/>
            <a:ext cx="84247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79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Article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4000" y="1341360"/>
            <a:ext cx="8424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An Excep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ticle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asis of an overriding requirement of general public importance 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ndatory requir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recognised by the case law of the ECJ, e.g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vention of tax eva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tection of the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portion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the aim purs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50920" y="1341360"/>
            <a:ext cx="84247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79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Article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79280" y="1268280"/>
            <a:ext cx="8569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The exceptions in Article 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mo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ion of the health and life of humans, animal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ion of national treasures possessing artistic, historic or archaeological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ion of industrial and commercial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250920" y="1125360"/>
            <a:ext cx="84247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2411280" y="6248520"/>
            <a:ext cx="489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5092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Advantages of Mutual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68580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ree mov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product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thout harmo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ts can b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keted throughout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ariety of produc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e consu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ecting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versity and subsidi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n be invoked by citizens and enterpris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fore national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268280"/>
            <a:ext cx="84247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Background to this Regulation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blems in the field of mutual recognition have been a 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recurrent issue on:</a:t>
            </a: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The Council’s agenda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since 1998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Single Market Action Pla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(1997)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Internal Market Strategy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(1999-200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ternal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Market Strategy 2003-2006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[COM(2003)238]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395280" y="134136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ROBAYID</cp:lastModifiedBy>
  <cp:lastPrinted>2008-06-02T19:37:29Z</cp:lastPrinted>
  <dcterms:modified xsi:type="dcterms:W3CDTF">2008-11-10T16:08:23Z</dcterms:modified>
  <cp:revision>36</cp:revision>
  <dc:subject/>
  <dc:title>Présentation PowerPoint</dc:title>
</cp:coreProperties>
</file>