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819-CD2F-4752-8096-BC860E16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615-C8C9-4E10-9EC5-63C0F083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4CB-6B1A-4E63-AEA0-D7A627AB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5AD-3A90-458B-B3A6-0C3BF28F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7C1-FBDF-453E-A4B0-2F3D1634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15F-A008-4DAD-823A-093676D4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530-BD30-4542-A731-FA2ACC85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268-0560-4C44-AF60-A755F21E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A9D-A53C-47ED-AC65-9685DB9D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4AC-28D8-4F0E-AD10-B6800C1A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0D6-C432-4B17-84D3-C54F79C4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215-3042-4316-A228-000A4923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760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79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79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d2760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ACDE-D08C-4403-8EA3-D2245405B591}" type="slidenum">
              <a:rPr b="1" lang="en-US" sz="1000" spc="-1" strike="noStrike">
                <a:solidFill>
                  <a:srgbClr val="d2760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108000" y="6353280"/>
          <a:ext cx="1008000" cy="38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6353280"/>
                    <a:ext cx="10080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Market Surveillance for 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r. Rainer Mikulits</a:t>
            </a:r>
            <a:endParaRPr b="1" lang="en-US" sz="2000" spc="-1" strike="noStrike">
              <a:solidFill>
                <a:srgbClr val="00279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hairman AdCo MS-CP</a:t>
            </a:r>
            <a:endParaRPr b="1" lang="en-US" sz="20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General Framework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Tahoma"/>
              </a:rPr>
              <a:t>Regulation (EC) Nr. 765/2008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General Provisions and obligations of Member States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Procedures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arket surveillance measur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Products presenting a serious risk </a:t>
            </a:r>
            <a:r>
              <a:rPr b="0" lang="en-GB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 RAPEX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General information support system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ontrol of imports from third countri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Cooperation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Exchange of information and mutual assistance of Market Surveillance Authoriti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Sharing of resources (training programmes, exchange of experiences, information campaigns)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Tahoma"/>
              </a:rPr>
              <a:t>Regulation (EU) No 305/2011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Specific provisions regarding Construction Products (Art. 56)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Action pursuant Art. 20 (EC-Regulation 765/2008)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t only „products presenting a serious risk“, but also</a:t>
            </a:r>
            <a:br>
              <a:rPr sz="1800"/>
            </a:b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„</a:t>
            </a:r>
            <a:r>
              <a:rPr b="0" lang="en-GB" sz="1800" spc="-1" strike="noStrike" u="sng">
                <a:solidFill>
                  <a:srgbClr val="00279f"/>
                </a:solidFill>
                <a:uFillTx/>
                <a:latin typeface="Tahoma"/>
              </a:rPr>
              <a:t>Products which do not achieve the declared performance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and present a </a:t>
            </a:r>
            <a:r>
              <a:rPr b="0" lang="en-GB" sz="1800" spc="-1" strike="noStrike" u="sng">
                <a:solidFill>
                  <a:srgbClr val="00279f"/>
                </a:solidFill>
                <a:uFillTx/>
                <a:latin typeface="Tahoma"/>
              </a:rPr>
              <a:t>risk for the fulfilment of the basic requirements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“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valuation, benchmark are the requirements of the CPR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nformation of EC and Member Stat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hen non-compliance is not limited to the own Member Stat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 acc. to Art. 21 (EC-Regulation 765/2008)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Corrective actions – to bring the product into compliance</a:t>
            </a:r>
            <a:br>
              <a:rPr sz="1800"/>
            </a:b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„notably with the declared performance“ – before measures are taken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formation of Notified Body (if involved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Feedback loop and Safeguard Procedure (Art. 57)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arket Surveillance Authority informs EC and Member States about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details of the cas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(restrictive) measures to be taken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reason for non-compliance (“bad product” or “bad specifications”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 are only “provisional” during 15 days reaction time for EC and Member Stat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f objections are raised </a:t>
            </a:r>
            <a:r>
              <a:rPr b="0" lang="en-GB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 Safeguard Procedure acc. to Art. 57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consults Member States and economic operator(s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evaluates the (provisional) national measures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decides whether justified or not 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f “bad specification”: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 case of hE information of CEN and </a:t>
            </a:r>
            <a:r>
              <a:rPr b="0" lang="en-GB" sz="18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Committee 98/34/EC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 case of EAD </a:t>
            </a:r>
            <a:r>
              <a:rPr b="0" lang="en-GB" sz="18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SCC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Formal non-compliance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ases acc. to Art. 59: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 CE marking although there is a declaration of performanc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rong CE marking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 declaration of performance although required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rong declaration of performanc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technical documentation missing or incomplet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ember State (sic!) shall require the economic operator to put an end to the non-compliance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Otherwise the Member State shall take appropriate measures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Open questions: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oes the procedure according to Art. 56.4 (“feedback loop”) apply to cases of Art. 59.2 (measures in case of formal non-conformity) in analogy?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oes the procedure according to Art. 56.4 also apply to cases where the non-conformity is limited to the national territory of the market surveillance authority concerned?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What is the purpose and meaning of Art. 58 (complying construction products which nevertheless present a risk to health and safety)?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3440" y="2654280"/>
            <a:ext cx="88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ff33"/>
                </a:solidFill>
                <a:latin typeface="Tahoma"/>
              </a:rPr>
              <a:t>Thank you very much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2:33:31Z</dcterms:created>
  <dc:creator>Rainer Mikulits</dc:creator>
  <dc:description/>
  <dc:language>en-US</dc:language>
  <cp:lastModifiedBy>katsage</cp:lastModifiedBy>
  <dcterms:modified xsi:type="dcterms:W3CDTF">2011-07-04T07:20:16Z</dcterms:modified>
  <cp:revision>8</cp:revision>
  <dc:subject/>
  <dc:title>Market Surveillance for Construction Products</dc:title>
</cp:coreProperties>
</file>