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1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C8E-9C17-4BD8-AB55-357C4D3E406B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0A7-7D12-41E1-AA19-53E3841720EC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9F15-EC2C-46EE-9340-7729DAF2FCC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2005 CEN – all rights reser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D285493A-C6F1-43E3-93E3-FCF489B72B38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8B3B-B2D5-491F-BF20-FA27C8A520AB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A31B-64EF-4F86-B21D-F64F6F2D6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D3A5-2446-488E-9E6E-78750F0AF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2F46-6507-4EE0-AD87-23ACEDDA1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5C8D-7776-46EA-9842-79BF2F2A0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865D-1F7A-4506-B249-7D160FFE7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F2E14-DDCF-40F6-ADD3-12B9B8BC26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43A48-B9F3-4973-A40A-1BE5EDBC27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273DA-2564-432A-9F42-1AFDDE66E6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3991D-D3EB-460A-AF17-5ABBC84D14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368C-C219-4FC5-9297-AAC3C249F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BA37-7CAC-4441-9A85-58D9A33AD3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A4A5-73AA-43A7-A93C-E49197E5D8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D4E95-2261-41FC-BFF4-AA90B73EE4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736A1-8EF5-4A80-A81B-6E56521C1D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E87EF-83C4-486F-A6CE-FF7B9CA784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7F779-4A9B-4EBA-9D86-D618A74076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F2221-3F98-4D05-9CF7-6CEB8F7978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4F56A-8CB0-435A-80D5-FB41819907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044F-F5A9-4AED-9F7B-9D02041E4D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C718-E847-4AED-BE2A-B0D1E2A37F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DC6C-37AC-4302-8ABE-A6C63EB4B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EDB1-7C0D-4420-BBBB-E224D6D2B0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1AB4-B284-42F5-8030-6BF1573E4F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9B81-06FC-4537-A1DF-B4BDFC28B6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0B6-77D3-4AB8-832A-E774F6F6DC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5C8D-9953-4324-8122-8D94D40AC7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B52F-7F81-4F03-82BC-2A5A0D8DA1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522-CDB6-44DF-8D74-80EBD67A99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6484-0D02-4780-AD57-D26945387B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059A-DEB2-4B24-9F33-C161271FB6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F09-9552-424E-BA3F-24FB6F7DE8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224A0-D2D7-4345-91A2-9C940DBAE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E3ED-5EC7-4125-80D8-785723BBC6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B7D69-7D01-413F-B362-6F23243B6B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B4E35-C541-4D6E-B390-5FCDE8B22F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37A3B-B927-4425-B844-7004438C30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39572-37D1-47E3-85F5-FBD37B685F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2386F-C45E-488A-926E-C8EA947847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28C99-72D4-4E56-9011-B622A11326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C1572-8A1F-4878-BD92-0A172D74F7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14F12-FB94-4F6C-875F-4308D44CEB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B2E54-9ECC-4D49-B25A-274BB26DE8E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E8604-87AC-4E70-9F56-8C1723D4D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AF7C-2E81-49D2-AF56-7957545068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CE734-765E-4518-870F-4ECE013BB4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D2A81-B3B5-4552-BCBB-9176CE2297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958D3-477B-4DEC-B079-FC7506EA25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A0B28-E058-4027-9383-8A4BE0AB74D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9E68B-F2DE-4747-8CA2-8D96D9452C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E005D-D736-4FD7-A127-69FA0BA2CB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5E870-1B8C-4132-87E4-23D6441B63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B9EAB-EF75-4841-A01B-B16C41FE46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3EF2C-28E5-450A-90D5-CE5B027893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8A93C-0973-4199-A4D1-92B72A68F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639E-4E44-4C05-9106-9098DC821D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0195E-2B61-4089-9612-E4269AD36C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7D118-3F2B-41F3-A9A6-BED9969B71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F81B4-9DF2-4192-B8D9-AE6E33C1B4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EE35-37F6-4D07-BD85-C831A8CA0A6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FD82-AD09-4B49-A39E-A6A35440AF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BF20-96D9-450E-ACC1-A8DEB55F95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6C32-54E2-4D12-98D8-D1A26CEDD3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EFDF-F34C-4D98-B20A-B9F1794182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F8FE-616C-41BF-B6B1-DB0294DD67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BE66-B72F-4218-B14C-9EB3126CE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79DC-C278-4267-9C6E-4912587221B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7F32-0A9D-45F2-A304-DD973CA4F6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D5A4-5AC5-4CE7-AB3A-FA44706B0E8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617C-9E92-4B6F-A23F-C49EA6A401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7EA4-2036-4ADF-A3E9-DCAAF48ABA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0C9A-A78C-4B80-9E7B-A50407B752A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CEE35-DE3B-4FAA-8264-6C45C73DC2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07C72-9124-4938-A306-81B26852D20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CF25A-A900-47A1-A342-971B3771E6A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C078E-114A-4CC0-84D6-F77FDC0FDC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511DB-B0C6-475D-A79B-6856205C7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6998-3050-42B7-97AD-25C8ACF0BD2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081A2-8062-4A9C-974B-431A8BB158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78234-BF5F-4A19-920A-AD94253C76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470C9-E3E0-4BA4-BA29-81DDDB7E58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F36D3-781E-46CC-9016-070BA70474C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A57AC-A9C3-48CB-AA91-F84D2CB12AA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A78C6-1286-42BB-A84D-ECC544FB326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E235D-1F22-4F03-85F6-DE5085D4F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A2E0E03-4A4B-46D6-99AC-3CD2ED2FBFEE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357120"/>
            <a:ext cx="2357280" cy="811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CEN_CENELEC-PPT_themes_V10+elements_ExtRelations_p13_PNG24.png"/>
          <p:cNvPicPr/>
          <p:nvPr/>
        </p:nvPicPr>
        <p:blipFill>
          <a:blip r:embed="rId3"/>
          <a:srcRect l="0" t="31594" r="28738" b="32743"/>
          <a:stretch/>
        </p:blipFill>
        <p:spPr>
          <a:xfrm>
            <a:off x="0" y="1341360"/>
            <a:ext cx="6516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9968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8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Name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Desig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4B91FF8-5448-4D6D-8578-72EEAE9D691E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EN-CENELEC-PPT template_layouts_V04_logo.png"/>
          <p:cNvPicPr/>
          <p:nvPr/>
        </p:nvPicPr>
        <p:blipFill>
          <a:blip r:embed="rId3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DD128A22-A127-4029-8045-12158369EA2D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E4E5CB89-4CE3-4E89-A10A-CA432AEC9DFE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ED6227C0-D46E-421E-8FB0-39AB15497FC7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8D82746A-580F-45FF-B6FA-04460D7EFB67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4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9CA5C91B-94F6-470A-AB04-7F578789AB62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.eu/" TargetMode="External"/><Relationship Id="rId2" Type="http://schemas.openxmlformats.org/officeDocument/2006/relationships/hyperlink" Target="http://www.cenelec.eu/" TargetMode="External"/><Relationship Id="rId3" Type="http://schemas.openxmlformats.org/officeDocument/2006/relationships/hyperlink" Target="mailto:adacosta@cencenelec.eu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400500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1st MEETING OF SCC </a:t>
            </a:r>
            <a:br>
              <a:rPr sz="2000"/>
            </a:b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(Art.64 of Regulation (EU) N° 305/2011)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4724280"/>
            <a:ext cx="8454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S AND STANDARDIZATION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0004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  <a:ea typeface="Verdana"/>
              </a:rPr>
              <a:t>Amilcar d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  <a:ea typeface="Verdana"/>
              </a:rPr>
              <a:t>CEN/CENELEC Programm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  <a:ea typeface="Verdana"/>
              </a:rPr>
              <a:t>2011-07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CC6-BFD3-4F06-8C68-D2BD124ADC31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4005360"/>
            <a:ext cx="840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CPR – Impact on Europea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oad map for the adaptation of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evision of model Annex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Information to Technical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afdb"/>
                </a:solidFill>
                <a:latin typeface="Arial"/>
                <a:ea typeface="Arial"/>
              </a:rPr>
              <a:t>Thank you! – Questions?</a:t>
            </a:r>
            <a:br>
              <a:rPr sz="4000"/>
            </a:br>
            <a:endParaRPr b="0" lang="en-US" sz="4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105A9F58-197F-4DFC-8F51-B8A71D9A333D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en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enelec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fdb"/>
                </a:solidFill>
                <a:latin typeface="Verdana"/>
              </a:rPr>
              <a:t>Amilcar da Costa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db"/>
                </a:solidFill>
                <a:latin typeface="Verdana"/>
              </a:rPr>
              <a:t>CEN/CENELEC Programme Manager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dacosta@cencenelec.eu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fdb"/>
                </a:solidFill>
                <a:latin typeface="Verdana"/>
              </a:rPr>
              <a:t>+32.2550.0974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</p:txBody>
      </p:sp>
      <p:pic>
        <p:nvPicPr>
          <p:cNvPr id="341" name="Picture 7" descr="MCj00787110000[1]"/>
          <p:cNvPicPr/>
          <p:nvPr/>
        </p:nvPicPr>
        <p:blipFill>
          <a:blip r:embed="rId4"/>
          <a:stretch/>
        </p:blipFill>
        <p:spPr>
          <a:xfrm>
            <a:off x="5572080" y="1571760"/>
            <a:ext cx="19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3:13Z</dcterms:created>
  <dc:creator>denmat</dc:creator>
  <dc:description/>
  <dc:language>en-US</dc:language>
  <cp:lastModifiedBy>CEN</cp:lastModifiedBy>
  <dcterms:modified xsi:type="dcterms:W3CDTF">2011-07-04T14:07:55Z</dcterms:modified>
  <cp:revision>72</cp:revision>
  <dc:subject/>
  <dc:title>Shaping European Standards</dc:title>
</cp:coreProperties>
</file>