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567C-AA39-4313-A506-21D0D23164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42AF-0859-41E2-B5F2-35A4180A7D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BAAD-718A-4449-BC1D-D26BD8A21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4EBA-9B2B-46C3-918F-5750D4CB3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9689-CBB7-4F5E-8A34-1C6570806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1AC9-2643-41F7-8B0E-E293FC24D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07175-A06F-4D14-A56F-75098124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889C2-0C10-4D94-802E-5A87AD50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E85E7-88B6-4DE8-AB64-5C2A98B7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CCAB4-2A6A-4763-B69C-79332AD2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2E9E5-EC30-4784-BC8E-5F4171B1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1C19A-3339-41C0-BD27-EA3F9D06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582A2-C7D6-4271-8F1C-F9F32CAE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3EBA-1B5E-488C-B5E8-68AC3BC19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9E644-87B5-4A42-963A-D2E4EAA0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A4894-0921-4E69-8D7F-C26E2B55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39732-E4D8-4BD0-A93B-C68B8F9B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6109C-F4D6-4EB1-BD38-234F3C59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47FEA-8B87-4087-A704-3F67C305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04FABD-B6BB-4DEE-BCA7-7AC14B66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BE3B63-4863-40B1-AC58-6E2ADD6B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41C93E-1269-4B2B-B915-421BC924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2373C7-3108-437D-92A7-F7475E7C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F0884C-809D-4DFF-83EE-ADFA9BE3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EC66-4D86-4C3B-93B3-4C89A9DCAA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5C6DD-BCD1-4EEB-8ADC-39679B9E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091D7F-1F94-47E4-B284-A6A22A4C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CD56DD-0937-4713-9FA8-7234D3E5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87F28B-1D27-4691-9DD8-A8EF28AD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570C31-48AE-4794-A174-CCC0774E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DCEBDC-823C-4568-BDF8-2E3341E5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F501A6-64B8-4832-9EE5-168E216B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38E25-AE3D-467C-8061-2F7FD72BA5A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CBBEC-6CA5-43F8-9C12-541AD17935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1013D-6C5F-4BBE-BFE6-FDBE1F935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4DA3-3E08-4205-9274-5EEA975F4F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806CC-7C41-45DA-9609-8742C8A2A5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DAA94-E14D-4F73-AC8E-4FBF1C46E9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DAFC9-BD9D-49A3-8E9A-E6037DE6CE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D4D41-4CD1-41E4-80F3-E9A2E6821B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AA22D-9924-4337-B8E9-CD36C602CE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8DE89-CEED-428E-9B83-94DD19B6B3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D3AB6-7E3C-4888-81EB-000421B131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CB302-01CE-4345-BD24-0A4AB9C081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2F5CA-7516-4A26-B47E-D0E460309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C2C7-5555-4D27-B8AB-D7E1B434A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EF6A-6A96-4806-BAAA-B944EC987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4B26-53A6-4520-BB6F-60E38C5FD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C437-55B7-4FA7-A10E-DB18446E8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1B0E-EB21-4BAD-A860-232C5BE52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9E99-4A26-40AB-ADF4-4349BC01875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176D-BFBD-4058-BC00-C67D15CEBE7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0353-B82D-49C7-A121-28EFCCBC2CA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351A-76EF-48AF-8F68-BA30FBDDF6C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781360"/>
            <a:ext cx="807264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ruction Products Regulation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ights and obligations of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C341-9A27-4C37-9787-4588DAD7280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735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Provide a clear, complete and reliable information on products placed on the market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ame obligation for all manufacturers (&amp; importers) in Europ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Declaration of performance (DoP) for a product covered by an hEN or an ETA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termination of the “product-type”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rawn up a DoP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upply the DoP with the produc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56E6-21D9-4D53-915F-0388DADF3B9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28240" y="160020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echnical documentation 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Description of all the relevant elements related to the assessment and verification of constancy of performanc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Kept 10 years, up-dated, provided on the request of authoriti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CE Mark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ffixed on the product, or a label, or the packaging or accompanying documents (art 9.1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llowed by additional information, including “level and class declared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Market Surveillanc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ooperate in case of request, providing all the elements abov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In case of doubt or non conform product: correct, inform, cooperate (Art 11.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7-8, 56.1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69B3-1977-46B1-B21D-A35E06C2E2C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14200" y="1456920"/>
            <a:ext cx="87868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claration of Performance (DoP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ossible derogations (art 5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NPD option (no test!) where essential characteristic is not regulated (art 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raw up the DoP on the basis of existing CE marking affixed under CPD (art 6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termination of Product-type: Simplified procedures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Deemed to satisfy procedure (Art 27.5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WT/WFT, Shared IT, Cascading (Art 3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icro-enterprises turning system 3 into system 4 (Rec 27, Art 37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ducts individually manufactured turning system 3 into system 4 (Art 38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European Technical Assessment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Request an ETA when hENs do not allow to assess the product (Art 19)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For ETAs issued before 1/07/2013, EADs consistent with existing ETAGs/CUAP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duct Contact Points (Rec 42-44, Art 10), Information campaigns (Rec 54)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1131480" indent="0" algn="just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3A82-D87E-4A27-A0BC-9C7C675236D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Right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Pascal Bar</cp:lastModifiedBy>
  <cp:lastPrinted>2000-03-16T10:24:10Z</cp:lastPrinted>
  <dcterms:modified xsi:type="dcterms:W3CDTF">2011-07-04T16:22:28Z</dcterms:modified>
  <cp:revision>599</cp:revision>
  <dc:subject/>
  <dc:title>Aucun titre de diapositive</dc:title>
</cp:coreProperties>
</file>