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A8B6-6CFD-4CBA-8585-B5AA00940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DBF9-FA5F-49D1-BA4F-B726EBFA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AD82-09CD-4F63-BE57-C5CAE66C6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4DF7-ADEB-48AA-8F0C-C9E5BB3CD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A59A-D87A-4BEE-A01D-B73591CB8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9E9A-F438-4AC0-BFD5-A36A6079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F067-EA16-496B-972C-9F60EE6B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BF2A-6439-405F-B938-8D774575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B603-EA07-47FF-A891-AB54B05B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D8E9-F932-4804-A565-F651E326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71B3-1419-4D45-8CA9-188738A9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02F0-AEFC-462A-965A-D39A348D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E108-1929-4325-A372-7AA7E64A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B99E-CBCB-4FA2-A93C-70EFA64E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957A-92DE-4F5F-9671-7D2D4308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C444-395B-4DE0-840B-D3E72911B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1334-E8E1-48BC-A7F4-7C88F2787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68F5-1107-4CCF-973A-93961D61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04BB-34CF-45B1-BF95-1FF841D6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7C9F-9152-4D1F-8481-058D15D2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234F-7F5B-4ACC-B117-434BB936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21DE-E8B0-4590-9828-F501F4A7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C5E2-039B-48CD-8C39-6459A0E0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4CBA-BD8D-4F5F-B57A-149B6AC3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F6D1-6D8B-4533-AE89-701D53C034B4}" type="slidenum">
              <a:rPr b="0" lang="fr-BE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390D-D828-4386-8D13-1BF3180B53C8}" type="slidenum">
              <a:rPr b="0" lang="fr-BE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First Standing Committee on Construction (Regulation (EU) 305/2011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Verdana"/>
              </a:rPr>
              <a:t>Member States Rights &amp; Obligation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E25D-84CE-48BD-AF20-3F144DABEA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TABs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09" name=""/>
          <p:cNvGraphicFramePr/>
          <p:nvPr/>
        </p:nvGraphicFramePr>
        <p:xfrm>
          <a:off x="900000" y="1557360"/>
          <a:ext cx="7715520" cy="4448160"/>
        </p:xfrm>
        <a:graphic>
          <a:graphicData uri="http://schemas.openxmlformats.org/drawingml/2006/table">
            <a:tbl>
              <a:tblPr/>
              <a:tblGrid>
                <a:gridCol w="432000"/>
                <a:gridCol w="1297080"/>
                <a:gridCol w="2879640"/>
                <a:gridCol w="310680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B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ignation within their territories of TABs (making use of product areas of table 1 AIV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munication of info to other MS and Co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B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sultation of the list made electronicaly available by Co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itoring activities and competences of their TABs; Evaluation of TABs (use of table 2, AIV); Information to Com on national procedure for designation and monitor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195C-701C-46C4-9789-A8D22C7A04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TABs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13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15" name=""/>
          <p:cNvGraphicFramePr/>
          <p:nvPr/>
        </p:nvGraphicFramePr>
        <p:xfrm>
          <a:off x="900000" y="1557360"/>
          <a:ext cx="7715520" cy="2998800"/>
        </p:xfrm>
        <a:graphic>
          <a:graphicData uri="http://schemas.openxmlformats.org/drawingml/2006/table">
            <a:tbl>
              <a:tblPr/>
              <a:tblGrid>
                <a:gridCol w="432000"/>
                <a:gridCol w="1511280"/>
                <a:gridCol w="3024000"/>
                <a:gridCol w="2748240"/>
              </a:tblGrid>
              <a:tr h="107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uideline for TABs evalu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 be consulted (SCC) before adoption by CO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ithdrawal of TAB designation when it does not satisfy any more the requirements of table 2, AI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335B-6E05-4513-946E-1A1693C51E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155520" y="26028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Notified bodies (NB)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21" name=""/>
          <p:cNvGraphicFramePr/>
          <p:nvPr/>
        </p:nvGraphicFramePr>
        <p:xfrm>
          <a:off x="900000" y="1557360"/>
          <a:ext cx="7715520" cy="3228840"/>
        </p:xfrm>
        <a:graphic>
          <a:graphicData uri="http://schemas.openxmlformats.org/drawingml/2006/table">
            <a:tbl>
              <a:tblPr/>
              <a:tblGrid>
                <a:gridCol w="432000"/>
                <a:gridCol w="1511280"/>
                <a:gridCol w="2089080"/>
                <a:gridCol w="368316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3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tif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tification to Com and other MS of bodies authorised to carry out third-party tasks in the process of AVC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tifying authority (N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ciding that national accreditation bodies may be 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ignation of a notifying authority responsible for procedures for assessment and notif of NBs and their monitor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71D5-23F0-4E8B-8DAC-6610D2D6D9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Notified bodies (NB) 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25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27" name=""/>
          <p:cNvGraphicFramePr/>
          <p:nvPr/>
        </p:nvGraphicFramePr>
        <p:xfrm>
          <a:off x="900000" y="1557360"/>
          <a:ext cx="7715520" cy="4843440"/>
        </p:xfrm>
        <a:graphic>
          <a:graphicData uri="http://schemas.openxmlformats.org/drawingml/2006/table">
            <a:tbl>
              <a:tblPr/>
              <a:tblGrid>
                <a:gridCol w="432000"/>
                <a:gridCol w="2016000"/>
                <a:gridCol w="2160720"/>
                <a:gridCol w="310680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0.3 Notifying author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legation to non governmental ent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suring legal status of this entity and coverage of liabi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quirements for 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suring no conflict of interest with notified bodies; Objective and impartial; respect of organisational rules as mentioned in 41.3,4,5 and 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formation oblig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cess to the Com publicly available inform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forming Com on national procedures for assessment and notification of bod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93DA-9656-4E98-9A27-0BDDAE5490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Notified bodies (NB) 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31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33" name=""/>
          <p:cNvGraphicFramePr/>
          <p:nvPr/>
        </p:nvGraphicFramePr>
        <p:xfrm>
          <a:off x="900000" y="1557360"/>
          <a:ext cx="7715520" cy="4538520"/>
        </p:xfrm>
        <a:graphic>
          <a:graphicData uri="http://schemas.openxmlformats.org/drawingml/2006/table">
            <a:tbl>
              <a:tblPr/>
              <a:tblGrid>
                <a:gridCol w="432000"/>
                <a:gridCol w="1871640"/>
                <a:gridCol w="2305080"/>
                <a:gridCol w="3106800"/>
              </a:tblGrid>
              <a:tr h="13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4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quirements for N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ssuming liability insurance (43.9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 authority checking compliance of NBs with art 43 and A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tification proced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 and other MS to be informed of notification (preferably making use of Com EE° tool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nd still period after notification (depending if accreditation used or not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66E6-BF1B-4AA7-B7C4-A5697FB5D1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Notified bodies (NB) 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37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39" name=""/>
          <p:cNvGraphicFramePr/>
          <p:nvPr/>
        </p:nvGraphicFramePr>
        <p:xfrm>
          <a:off x="900000" y="1557360"/>
          <a:ext cx="7715520" cy="4843440"/>
        </p:xfrm>
        <a:graphic>
          <a:graphicData uri="http://schemas.openxmlformats.org/drawingml/2006/table">
            <a:tbl>
              <a:tblPr/>
              <a:tblGrid>
                <a:gridCol w="432000"/>
                <a:gridCol w="1727280"/>
                <a:gridCol w="2449440"/>
                <a:gridCol w="310680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0.2 Important modifications in notif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suring the transfer of file if necessary and keeping the file available for NA and MS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allenge of the competence of the N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viding info as foreseen in § 2; Taking of appropriate measures as foreseen in § 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change of experi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king use by MS national authority of the system organised by Co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2241-1FE9-4029-A430-5DE9765050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Notified bodies (NB) 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45" name=""/>
          <p:cNvGraphicFramePr/>
          <p:nvPr/>
        </p:nvGraphicFramePr>
        <p:xfrm>
          <a:off x="900000" y="1773360"/>
          <a:ext cx="7715520" cy="1309680"/>
        </p:xfrm>
        <a:graphic>
          <a:graphicData uri="http://schemas.openxmlformats.org/drawingml/2006/table">
            <a:tbl>
              <a:tblPr/>
              <a:tblGrid>
                <a:gridCol w="432000"/>
                <a:gridCol w="1727280"/>
                <a:gridCol w="2449440"/>
                <a:gridCol w="3106800"/>
              </a:tblGrid>
              <a:tr h="13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ordination of N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suring their NBs comply with obligations set up in art 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26A3-0BF4-4143-985E-A692D3B0D0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Market Surveillance (SM)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49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51" name=""/>
          <p:cNvGraphicFramePr/>
          <p:nvPr/>
        </p:nvGraphicFramePr>
        <p:xfrm>
          <a:off x="900000" y="1557360"/>
          <a:ext cx="7715520" cy="3747960"/>
        </p:xfrm>
        <a:graphic>
          <a:graphicData uri="http://schemas.openxmlformats.org/drawingml/2006/table">
            <a:tbl>
              <a:tblPr/>
              <a:tblGrid>
                <a:gridCol w="432000"/>
                <a:gridCol w="1584360"/>
                <a:gridCol w="2160360"/>
                <a:gridCol w="3538800"/>
              </a:tblGrid>
              <a:tr h="37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§1 Procedure for product presenting a ris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king action pursuant to Regulation 765/2008; Cooperation of the economic operator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rrying out evaluation as foreseen in 56§1; If product not complyith possibili with the requirements of CPR, requiring economic operator (EO) taking appropriate corrective actions, with possibility of withdrawal or recall of the product; information to NB if involv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B87A-67A0-4DDD-AD12-FC545B7E0E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Market Surveillance (SM) 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55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57" name=""/>
          <p:cNvGraphicFramePr/>
          <p:nvPr/>
        </p:nvGraphicFramePr>
        <p:xfrm>
          <a:off x="900000" y="1557360"/>
          <a:ext cx="7715520" cy="4017960"/>
        </p:xfrm>
        <a:graphic>
          <a:graphicData uri="http://schemas.openxmlformats.org/drawingml/2006/table">
            <a:tbl>
              <a:tblPr/>
              <a:tblGrid>
                <a:gridCol w="432000"/>
                <a:gridCol w="1584360"/>
                <a:gridCol w="2592360"/>
                <a:gridCol w="3106800"/>
              </a:tblGrid>
              <a:tr h="17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§2 Procedure for product presenting a ris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formation of Com and other MS if non compliance not only limited to the national territo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§4,5 Procedure for product presenting a ris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f adequate corrective measures not taken in due time SMA takes appropriate measures; Information on this measures to Com and other M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2F4B-4E38-4DEE-B725-88DF751B47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Market Surveillance (SM) 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61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63" name=""/>
          <p:cNvGraphicFramePr/>
          <p:nvPr/>
        </p:nvGraphicFramePr>
        <p:xfrm>
          <a:off x="900000" y="1557360"/>
          <a:ext cx="7715520" cy="5065560"/>
        </p:xfrm>
        <a:graphic>
          <a:graphicData uri="http://schemas.openxmlformats.org/drawingml/2006/table">
            <a:tbl>
              <a:tblPr/>
              <a:tblGrid>
                <a:gridCol w="432000"/>
                <a:gridCol w="1511280"/>
                <a:gridCol w="2665440"/>
                <a:gridCol w="310680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§6,7 Procedure for product presenting a ris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change of info between MS and Com about the non complianc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§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king of restrictive measu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3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ion safeguard proced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h or EAD to be modified if they are the source of the risk (shortcomings) after consultation of 98/34 or Standing Committe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intaining or deletion of the taken national measur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988D-6CC2-488D-A457-DA6D9F8FF5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ecff"/>
                </a:solidFill>
                <a:latin typeface="Arial"/>
              </a:rPr>
              <a:t>Member States Rights &amp; Oblig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General regulations framewo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General remark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Subsidiarity and BW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Main poi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6155-2BF9-45D2-B4F0-C20A0B034D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Market Surveillance (SM) 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67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69" name=""/>
          <p:cNvGraphicFramePr/>
          <p:nvPr/>
        </p:nvGraphicFramePr>
        <p:xfrm>
          <a:off x="900000" y="1557360"/>
          <a:ext cx="7715520" cy="2165400"/>
        </p:xfrm>
        <a:graphic>
          <a:graphicData uri="http://schemas.openxmlformats.org/drawingml/2006/table">
            <a:tbl>
              <a:tblPr/>
              <a:tblGrid>
                <a:gridCol w="432000"/>
                <a:gridCol w="2087640"/>
                <a:gridCol w="1873080"/>
                <a:gridCol w="3322800"/>
              </a:tblGrid>
              <a:tr h="21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plying construction products which nevertheless present a risk to health and safety</a:t>
                      </a:r>
                      <a:r>
                        <a:rPr b="0" lang="fr-BE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ntioned in §1,3 and 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860D-D027-408E-8536-B0FAF06B26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Delegated Acts (Lisbon)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73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75" name=""/>
          <p:cNvGraphicFramePr/>
          <p:nvPr/>
        </p:nvGraphicFramePr>
        <p:xfrm>
          <a:off x="900000" y="1557360"/>
          <a:ext cx="7715520" cy="3124080"/>
        </p:xfrm>
        <a:graphic>
          <a:graphicData uri="http://schemas.openxmlformats.org/drawingml/2006/table">
            <a:tbl>
              <a:tblPr/>
              <a:tblGrid>
                <a:gridCol w="432000"/>
                <a:gridCol w="1584360"/>
                <a:gridCol w="2592360"/>
                <a:gridCol w="310680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vocation of the deleg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vocation (Council) possible at any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 62 §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bjections to delegated ac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bjection (Council) within 3 months (extension of 3 months possibl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A6FA-EF35-4ED5-B287-5116C68B41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  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Standing Committee on Construction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79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81" name=""/>
          <p:cNvGraphicFramePr/>
          <p:nvPr/>
        </p:nvGraphicFramePr>
        <p:xfrm>
          <a:off x="900000" y="1557360"/>
          <a:ext cx="7715520" cy="1079640"/>
        </p:xfrm>
        <a:graphic>
          <a:graphicData uri="http://schemas.openxmlformats.org/drawingml/2006/table">
            <a:tbl>
              <a:tblPr/>
              <a:tblGrid>
                <a:gridCol w="432000"/>
                <a:gridCol w="1297080"/>
                <a:gridCol w="2879640"/>
                <a:gridCol w="31068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se of decision 1999/468/EC art 3 &amp; 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quirements for members in art 64§3 CP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9150-099E-46D2-A069-027A7A7D02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468360" y="404280"/>
            <a:ext cx="92995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353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A regulation does not need to be transposed</a:t>
            </a: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(that, everybody knows!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The CPR needs some work in the MS  before national procedures will be conform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Good luck to everyone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85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2410920" y="1341360"/>
            <a:ext cx="4038840" cy="453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0438-0E42-4E69-BBA2-2D669C3B72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ecff"/>
                </a:solidFill>
                <a:latin typeface="Arial"/>
              </a:rPr>
              <a:t>General Regulation Framewor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494000" y="333360"/>
          <a:ext cx="7149960" cy="582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4000" y="333360"/>
                    <a:ext cx="714996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8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169" name="" descr=""/>
            <p:cNvPicPr/>
            <p:nvPr/>
          </p:nvPicPr>
          <p:blipFill>
            <a:blip r:embed="rId3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B94E-5449-445C-8FCF-49C08EF7FF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ecff"/>
                </a:solidFill>
                <a:latin typeface="Arial"/>
              </a:rPr>
              <a:t>General remark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Dates of Application</a:t>
            </a:r>
            <a:r>
              <a:rPr b="0" lang="fr-BE" sz="3200" spc="-1" strike="noStrike">
                <a:solidFill>
                  <a:srgbClr val="ff0066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0066"/>
                </a:solidFill>
                <a:latin typeface="Verdana"/>
              </a:rPr>
              <a:t>2011</a:t>
            </a: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201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Disclaim: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content of this unformal communication is not necessarily fully endorsed by the Belgian authorities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nly Wording of CPR is correct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174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1C26-ED9A-4140-B8D5-2EC4D1B673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ecff"/>
                </a:solidFill>
                <a:latin typeface="Arial"/>
              </a:rPr>
              <a:t>Subsidiarity and BW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Subsidiarity !! Righ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National rules mentioned in 8.6 (ENh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and BWR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Annex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Right of adopting BW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Making use of modifications of BWRin CP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Oblig of making use of ENh (8.6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9BC3-90C6-4996-B97A-3F67D3EBB6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      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BWR and essential characteristics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86" name=""/>
          <p:cNvGraphicFramePr/>
          <p:nvPr/>
        </p:nvGraphicFramePr>
        <p:xfrm>
          <a:off x="900000" y="1557360"/>
          <a:ext cx="7715520" cy="2519280"/>
        </p:xfrm>
        <a:graphic>
          <a:graphicData uri="http://schemas.openxmlformats.org/drawingml/2006/table">
            <a:tbl>
              <a:tblPr/>
              <a:tblGrid>
                <a:gridCol w="432000"/>
                <a:gridCol w="1297080"/>
                <a:gridCol w="2879640"/>
                <a:gridCol w="3106800"/>
              </a:tblGrid>
              <a:tr h="167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rst §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pe of making use of essential characteristics define by Com by 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? Adapting MS requirements accordingly (art 8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cond §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dem for threshold le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6F26-DCD6-46C3-85D1-875A19F046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973440" y="277920"/>
            <a:ext cx="9659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General principles and use CE mark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91" name=""/>
          <p:cNvGraphicFramePr/>
          <p:nvPr/>
        </p:nvGraphicFramePr>
        <p:xfrm>
          <a:off x="826920" y="1413000"/>
          <a:ext cx="6788160" cy="4614840"/>
        </p:xfrm>
        <a:graphic>
          <a:graphicData uri="http://schemas.openxmlformats.org/drawingml/2006/table">
            <a:tbl>
              <a:tblPr/>
              <a:tblGrid>
                <a:gridCol w="430560"/>
                <a:gridCol w="2787480"/>
                <a:gridCol w="3570120"/>
              </a:tblGrid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 ref to marking attesting conf in DoP other than 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hibit or impede use or making available of CP with a declared performance not in accordance with national requirem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t prohibit or impede () making available or use of products bearing CE if declared performances correspond to MS requirem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9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thods used in Requirements for works in accordance with EN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D47B-F6A8-474B-A845-2269A5BB1D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PCP &amp; Stakeholders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195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97" name=""/>
          <p:cNvGraphicFramePr/>
          <p:nvPr/>
        </p:nvGraphicFramePr>
        <p:xfrm>
          <a:off x="900000" y="1557360"/>
          <a:ext cx="7715520" cy="4613400"/>
        </p:xfrm>
        <a:graphic>
          <a:graphicData uri="http://schemas.openxmlformats.org/drawingml/2006/table">
            <a:tbl>
              <a:tblPr/>
              <a:tblGrid>
                <a:gridCol w="432000"/>
                <a:gridCol w="1727280"/>
                <a:gridCol w="2449440"/>
                <a:gridCol w="3106800"/>
              </a:tblGrid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C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 or mo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? Same as 764/20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ignatio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 conflict of intere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?Central notif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bligations Stakehold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art 11 to 16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 Imposing language for safety instruc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 To be informed in case of product presenting a ris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monstration of C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formity with Do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 Receiving info in a languaga easily understo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 Imposing the elimination of the risk (hazard ?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king of a « reasoned request » if CP presents a ris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4EC5-3E5B-4122-AC4E-16340DE807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ENh &amp;EAD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01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03" name=""/>
          <p:cNvGraphicFramePr/>
          <p:nvPr/>
        </p:nvGraphicFramePr>
        <p:xfrm>
          <a:off x="900000" y="1557360"/>
          <a:ext cx="7715520" cy="4133880"/>
        </p:xfrm>
        <a:graphic>
          <a:graphicData uri="http://schemas.openxmlformats.org/drawingml/2006/table">
            <a:tbl>
              <a:tblPr/>
              <a:tblGrid>
                <a:gridCol w="432000"/>
                <a:gridCol w="1297080"/>
                <a:gridCol w="2879640"/>
                <a:gridCol w="31068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C being consulted by Com before request to C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bjection EN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f MS consider ENh not entirely satisfy mandate use of SCC or 98/ 34 committe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 decis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bjection E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f MS consider EAD not entirely satisfy demands ./. BWR use of SCC committe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11CB-781F-4A04-BD87-D6368A3471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5:24:24Z</dcterms:created>
  <dc:creator>Vertessen</dc:creator>
  <dc:description/>
  <dc:language>en-US</dc:language>
  <cp:lastModifiedBy>katsage</cp:lastModifiedBy>
  <dcterms:modified xsi:type="dcterms:W3CDTF">2011-07-01T15:29:13Z</dcterms:modified>
  <cp:revision>16</cp:revision>
  <dc:subject/>
  <dc:title>Diapositive 1</dc:title>
</cp:coreProperties>
</file>