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0846-626D-4DAA-AD6E-B3B47A1BB9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0D5A-5910-42C1-BD34-824BEA85ED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BD55-F168-442C-9BBF-55C83623E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1657-24C4-4219-8FE7-5B676D331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1C06-42F5-4815-A479-2355DB6F6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74F5-19DB-4516-A174-AF45B01CA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507BE-8061-4A02-AD8D-22BE4FAD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E41B6-88F9-49A9-8900-386B1968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1D714-F57E-42A4-AC10-B3C6FD51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6A5A8-B333-481A-BAC7-185A8F7B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40910-155F-4E26-A787-63A7CA41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82A9A-219F-4398-8F06-98C48070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F5E14-8A24-4C94-8CFE-49AC1811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ADFB-8EC9-4ECE-97E8-8C47E1219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2419D-01AB-4F7F-B3B6-6F4F629C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825D6-2CBF-4B6C-BDCA-2A03CAD9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CD3B6-9CEB-40CC-83EC-49C7477F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03125-13D0-4694-96C7-08F8C7D0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EE1CD-196B-4C11-BC1A-1655C327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63650-19DD-44A3-8D39-893CA75A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9D9576-4198-4B88-969F-56FE25B2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B1A28-E5C3-4D46-9B83-52D20729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FBD32C-BDF7-4CAD-841A-73D58209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9FB978-4E2F-4CC4-A053-2B4F38DC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ACD0-033F-47E7-AD73-738010CAC7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41292-3A7C-4472-BEE7-0BCD7B70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F43A83-13B9-4479-AA9F-5A9F0AD6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C69AD-36C4-40B4-9BD6-975650B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27203C-7AB2-441D-AEB5-E0DCCDB9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C4067B-69BB-4282-86C4-D02B56EE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F9387-49E1-48A1-ACB8-3CFFAB3F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306DA-62CC-4E46-A464-60E776C4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4F182-7E68-4AE3-B521-0244B84FFB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CC77D-16BD-4526-A6DF-340F8C2CF7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B0A8F-6D0A-4FB0-893E-951BE497F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F773-0DFE-4214-AC86-08F11604F2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5C42F-03A1-445C-AC4D-8334CB6D51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7ECE5-9DAA-4EE7-A1F5-4C03A3395F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9B846-1651-4083-A9EA-0C5058EB0C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C7E51-6DBE-414B-B475-AF99B300D1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33091-7FEE-4CBA-81BB-026E73A9C2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FD6D0-4D4A-47A3-AFBC-7EA29191E3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A17CE-A7C2-4A31-B7B6-A4FB75F335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0B487-0405-44E1-BFF4-1F9FDC4578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D91D6-E657-4A96-8B42-31CD72942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833B-DEFC-4626-B59A-98ABBCE05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BE4C-BBE9-47BA-AB89-A23B598B1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2A72-5CD8-42B0-9EE1-B5DAE0325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D443-073F-4708-B402-A0D4BBF96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4571-DF6F-4C92-B9D9-BEB715F23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A6BB-4D56-471B-8259-89A9DFEC3A0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5702-54BE-4395-96C4-B1133DF0D83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6A42-A76A-4A15-9659-6067DC69290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1EF6-3C7B-47CF-AD33-A7CF881AF40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33A5-B27E-4DF9-8AFA-2543CEC8C1C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C1D1-85C6-4D25-AFFD-A532E9F550A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to be applied for derogations (Article 5) and public information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(Article 37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ntact Points: Definition of types of information (free of charge or charged) (Recital 4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103B-84C1-41F2-B896-87EB4B2A136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CAA7-44AE-4BC4-944D-E0D1F2638D5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6F9D-CB6F-40AA-B901-0211D3796FF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B23A-37F8-43F9-AEAE-E4D1677C5A4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F72D-DFE5-4548-8B10-2B008CE9F4B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6:48Z</dcterms:modified>
  <cp:revision>539</cp:revision>
  <dc:subject/>
  <dc:title>Aucun titre de diapositive</dc:title>
</cp:coreProperties>
</file>