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1320" y="6302520"/>
              <a:ext cx="201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111320" y="6566040"/>
              <a:ext cx="201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111320" y="6302520"/>
              <a:ext cx="0" cy="26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24080" y="6302520"/>
              <a:ext cx="0" cy="26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276640"/>
            <a:ext cx="842472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Communication and informatio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a9"/>
                </a:solidFill>
                <a:latin typeface="Arial"/>
              </a:rPr>
              <a:t>Brussels, 5 Jul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52560" y="5229360"/>
            <a:ext cx="7237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fa9"/>
                </a:solidFill>
                <a:latin typeface="Arial"/>
              </a:rPr>
              <a:t>Manfred Fuc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fa9"/>
                </a:solidFill>
                <a:latin typeface="Arial"/>
              </a:rPr>
              <a:t>DG ENTR G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Current information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7921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TR/G5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articipation in information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tanding Committee for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parator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8360" y="6308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Upgrading &amp; updat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cus on target groups (stakeholder consul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xplaining shift from CPD to CP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PR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irst quarter of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tanding Committee for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perational conclusions public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niform application of C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ew expert groups for specific (operational)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8360" y="6308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Upgrading &amp; updating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921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inks to and networking with EC internal and external 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Guidance updated or removed wherever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ew guid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 events in cooperation with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spcBef>
                <a:spcPts val="700"/>
              </a:spcBef>
              <a:buNone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8360" y="6308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MS/Stakeholder inp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9218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mon effort for providing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What information/data do you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ntact details (contact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2062080"/>
                <a:tab algn="l" pos="3141720"/>
                <a:tab algn="l" pos="331776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inks to EC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8360" y="6308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Manfred Fuchs</cp:lastModifiedBy>
  <cp:lastPrinted>2008-06-02T19:37:29Z</cp:lastPrinted>
  <dcterms:modified xsi:type="dcterms:W3CDTF">2011-06-15T11:56:54Z</dcterms:modified>
  <cp:revision>101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55616991</vt:r8>
  </property>
  <property fmtid="{D5CDD505-2E9C-101B-9397-08002B2CF9AE}" pid="3" name="_AuthorEmail">
    <vt:lpwstr>Adriana.CZECHOWSKA@ec.europa.eu</vt:lpwstr>
  </property>
  <property fmtid="{D5CDD505-2E9C-101B-9397-08002B2CF9AE}" pid="4" name="_AuthorEmailDisplayName">
    <vt:lpwstr>CZECHOWSKA Adriana (ENTR)</vt:lpwstr>
  </property>
  <property fmtid="{D5CDD505-2E9C-101B-9397-08002B2CF9AE}" pid="5" name="_EmailSubject">
    <vt:lpwstr>D 3398</vt:lpwstr>
  </property>
  <property fmtid="{D5CDD505-2E9C-101B-9397-08002B2CF9AE}" pid="6" name="_NewReviewCycle">
    <vt:lpwstr/>
  </property>
  <property fmtid="{D5CDD505-2E9C-101B-9397-08002B2CF9AE}" pid="7" name="_PreviousAdHocReviewCycleID">
    <vt:r8>-1917228113</vt:r8>
  </property>
  <property fmtid="{D5CDD505-2E9C-101B-9397-08002B2CF9AE}" pid="8" name="_ReviewingToolsShownOnce">
    <vt:lpwstr/>
  </property>
</Properties>
</file>