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8A9B-CF43-492A-8562-159D30D6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933-223A-4246-A08C-72651375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100-1702-4F55-9A16-346DD3FE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2459-0C1E-414C-B9AD-9D5775CE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FEC5-4A67-4F88-BEA1-C60F66CB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4401-453C-41FB-9D3F-BE83D88C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49CD-2E87-4881-BD28-7F56188B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3073-A660-4C30-BA58-CDACF1F2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4852-6354-40F7-AE84-B032833E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3C69-91EA-4A55-AE0C-B443C29E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7A3C-FA97-46C3-9BC4-79398423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5E46-79C5-4090-8934-62DC10FF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28F1-394A-4B0E-961B-185CAF54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B5CE-8786-4AFB-945F-B9D9EAE7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AA09-9D93-40BE-91A1-938B92C9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789A-9A09-42B5-8F0E-F2046338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AFF7-664E-490F-94F5-65BBF0EB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50FE-D630-4A11-B8AC-5DD13EC9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066-E96B-4F44-BAC2-EB6A0874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5AC7-487A-45C3-97B7-3D9DB50A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9AB6-5044-44E1-A552-83D8F541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337A-FC2F-4491-9CD1-381E377B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8269-566C-43BC-9A40-3331D696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D665-036A-4D12-95E9-042F76F5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AEED-AE25-4C01-BE93-494B19C6A925}" type="slidenum">
              <a:rPr b="0" lang="fr-B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89A2-E76C-4411-A176-3E6CCCA25008}" type="slidenum">
              <a:rPr b="0" lang="fr-B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First Standing Committee on Construction (Regulation (EU) 305/2011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Verdana"/>
              </a:rPr>
              <a:t>Member States Rights &amp; Obligatio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FB44-F056-4203-B1EA-01E3EEABAA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TAB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9" name=""/>
          <p:cNvGraphicFramePr/>
          <p:nvPr/>
        </p:nvGraphicFramePr>
        <p:xfrm>
          <a:off x="900000" y="1557360"/>
          <a:ext cx="7715520" cy="444816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B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ation within their territories of TABs (making use of product areas of table 1 AIV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munication of info to other MS and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B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ultation of the list made electronicaly available by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itoring activities and competences of their TABs; Evaluation of TABs (use of table 2, AIV); Information to Com on national procedure for designation and monito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5A7-7756-48E9-BAB2-D94F566204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TAB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5" name=""/>
          <p:cNvGraphicFramePr/>
          <p:nvPr/>
        </p:nvGraphicFramePr>
        <p:xfrm>
          <a:off x="900000" y="1557360"/>
          <a:ext cx="7715520" cy="2998800"/>
        </p:xfrm>
        <a:graphic>
          <a:graphicData uri="http://schemas.openxmlformats.org/drawingml/2006/table">
            <a:tbl>
              <a:tblPr/>
              <a:tblGrid>
                <a:gridCol w="432000"/>
                <a:gridCol w="1511280"/>
                <a:gridCol w="3024000"/>
                <a:gridCol w="2748240"/>
              </a:tblGrid>
              <a:tr h="107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uideline for TABs evalu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 be consulted (SCC) before adoption by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ithdrawal of TAB designation when it does not satisfy any more the requirements of table 2, A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050-FF5D-4583-969A-5234B3E986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155520" y="26028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900000" y="1557360"/>
          <a:ext cx="7715520" cy="3228840"/>
        </p:xfrm>
        <a:graphic>
          <a:graphicData uri="http://schemas.openxmlformats.org/drawingml/2006/table">
            <a:tbl>
              <a:tblPr/>
              <a:tblGrid>
                <a:gridCol w="432000"/>
                <a:gridCol w="1511280"/>
                <a:gridCol w="2089080"/>
                <a:gridCol w="368316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3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ication to Com and other MS of bodies authorised to carry out third-party tasks in the process of AVC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ying authority (N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ciding that national accreditation bodies may be 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ation of a notifying authority responsible for procedures for assessment and notif of NBs and their monito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F9C2-F43C-4096-B938-8FA34ABCB4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7" name=""/>
          <p:cNvGraphicFramePr/>
          <p:nvPr/>
        </p:nvGraphicFramePr>
        <p:xfrm>
          <a:off x="900000" y="1557360"/>
          <a:ext cx="7715520" cy="4843440"/>
        </p:xfrm>
        <a:graphic>
          <a:graphicData uri="http://schemas.openxmlformats.org/drawingml/2006/table">
            <a:tbl>
              <a:tblPr/>
              <a:tblGrid>
                <a:gridCol w="432000"/>
                <a:gridCol w="2016000"/>
                <a:gridCol w="2160720"/>
                <a:gridCol w="31068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.3 Notifying author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legation to non governmental 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legal status of this entity and coverage of li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ments for 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no conflict of interest with notified bodies; Objective and impartial; respect of organisational rules as mentioned in 41.3,4,5 and 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tion oblig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cess to the Com publicly available in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ing Com on national procedures for assessment and notification of bod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08A0-3276-4D05-9F44-361E42BC98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900000" y="1557360"/>
          <a:ext cx="7715520" cy="4538520"/>
        </p:xfrm>
        <a:graphic>
          <a:graphicData uri="http://schemas.openxmlformats.org/drawingml/2006/table">
            <a:tbl>
              <a:tblPr/>
              <a:tblGrid>
                <a:gridCol w="432000"/>
                <a:gridCol w="1871640"/>
                <a:gridCol w="2305080"/>
                <a:gridCol w="3106800"/>
              </a:tblGrid>
              <a:tr h="13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ments for N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suming liability insurance (43.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 authority checking compliance of NBs with art 43 and A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ication proced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 and other MS to be informed of notification (preferably making use of Com EE° tool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nd still period after notification (depending if accreditation used or no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4D16-537F-4DD5-B78C-2E3890F178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9" name=""/>
          <p:cNvGraphicFramePr/>
          <p:nvPr/>
        </p:nvGraphicFramePr>
        <p:xfrm>
          <a:off x="900000" y="1557360"/>
          <a:ext cx="7715520" cy="4843440"/>
        </p:xfrm>
        <a:graphic>
          <a:graphicData uri="http://schemas.openxmlformats.org/drawingml/2006/table">
            <a:tbl>
              <a:tblPr/>
              <a:tblGrid>
                <a:gridCol w="432000"/>
                <a:gridCol w="1727280"/>
                <a:gridCol w="2449440"/>
                <a:gridCol w="31068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.2 Important modifications in not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the transfer of file if necessary and keeping the file available for NA and M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llenge of the competence of the N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viding info as foreseen in § 2; Taking of appropriate measures as foreseen in §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change of experi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ing use by MS national authority of the system organised by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65A1-C63E-4CAC-B4BC-A27D1E57E9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45" name=""/>
          <p:cNvGraphicFramePr/>
          <p:nvPr/>
        </p:nvGraphicFramePr>
        <p:xfrm>
          <a:off x="900000" y="1773360"/>
          <a:ext cx="7715520" cy="1309680"/>
        </p:xfrm>
        <a:graphic>
          <a:graphicData uri="http://schemas.openxmlformats.org/drawingml/2006/table">
            <a:tbl>
              <a:tblPr/>
              <a:tblGrid>
                <a:gridCol w="432000"/>
                <a:gridCol w="1727280"/>
                <a:gridCol w="2449440"/>
                <a:gridCol w="3106800"/>
              </a:tblGrid>
              <a:tr h="13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rdination of N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their NBs comply with obligations set up in art 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27C-2438-49D5-A292-4772CF1173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1" name=""/>
          <p:cNvGraphicFramePr/>
          <p:nvPr/>
        </p:nvGraphicFramePr>
        <p:xfrm>
          <a:off x="900000" y="1557360"/>
          <a:ext cx="7715520" cy="3747960"/>
        </p:xfrm>
        <a:graphic>
          <a:graphicData uri="http://schemas.openxmlformats.org/drawingml/2006/table">
            <a:tbl>
              <a:tblPr/>
              <a:tblGrid>
                <a:gridCol w="432000"/>
                <a:gridCol w="1584360"/>
                <a:gridCol w="2160360"/>
                <a:gridCol w="3538800"/>
              </a:tblGrid>
              <a:tr h="37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1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king action pursuant to Regulation 765/2008; Cooperation of the economic operator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rrying out evaluation as foreseen in 56§1; If product not complyith possibili with the requirements of CPR, requiring economic operator (EO) taking appropriate corrective actions, with possibility of withdrawal or recall of the product; information to NB if involv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3851-6AB1-434F-BEA6-44B4292760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900000" y="1557360"/>
          <a:ext cx="7715520" cy="4017960"/>
        </p:xfrm>
        <a:graphic>
          <a:graphicData uri="http://schemas.openxmlformats.org/drawingml/2006/table">
            <a:tbl>
              <a:tblPr/>
              <a:tblGrid>
                <a:gridCol w="432000"/>
                <a:gridCol w="1584360"/>
                <a:gridCol w="2592360"/>
                <a:gridCol w="3106800"/>
              </a:tblGrid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2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tion of Com and other MS if non compliance not only limited to the national territ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4,5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f adequate corrective measures not taken in due time SMA takes appropriate measures; Information on this measures to Com and other 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6C32-4CA3-424B-9C83-EE88DC0834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3" name=""/>
          <p:cNvGraphicFramePr/>
          <p:nvPr/>
        </p:nvGraphicFramePr>
        <p:xfrm>
          <a:off x="900000" y="1557360"/>
          <a:ext cx="7715520" cy="5065560"/>
        </p:xfrm>
        <a:graphic>
          <a:graphicData uri="http://schemas.openxmlformats.org/drawingml/2006/table">
            <a:tbl>
              <a:tblPr/>
              <a:tblGrid>
                <a:gridCol w="432000"/>
                <a:gridCol w="1511280"/>
                <a:gridCol w="2665440"/>
                <a:gridCol w="3106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6,7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change of info between MS and Com about the non complian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king of restrictive mea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on safeguard proced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h or EAD to be modified if they are the source of the risk (shortcomings) after consultation of 98/34 or Standing Committ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taining or deletion of the taken national measu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056-FB6F-4AB7-A111-A6CFB6BB25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Member States Rights &amp; Oblig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General regulations frame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General remar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Subsidiarity and BW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397-AEE8-4592-949C-E96E42EB04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9" name=""/>
          <p:cNvGraphicFramePr/>
          <p:nvPr/>
        </p:nvGraphicFramePr>
        <p:xfrm>
          <a:off x="900000" y="1557360"/>
          <a:ext cx="7715520" cy="2165400"/>
        </p:xfrm>
        <a:graphic>
          <a:graphicData uri="http://schemas.openxmlformats.org/drawingml/2006/table">
            <a:tbl>
              <a:tblPr/>
              <a:tblGrid>
                <a:gridCol w="432000"/>
                <a:gridCol w="2087640"/>
                <a:gridCol w="1873080"/>
                <a:gridCol w="3322800"/>
              </a:tblGrid>
              <a:tr h="21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ying construction products which nevertheless present a risk to health and safety</a:t>
                      </a:r>
                      <a:r>
                        <a:rPr b="0" lang="fr-BE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ntioned in §1,3 and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B4F-63BC-42BC-8CDB-E288190322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Delegated Acts (Lisbon)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900000" y="1557360"/>
          <a:ext cx="7715520" cy="3124080"/>
        </p:xfrm>
        <a:graphic>
          <a:graphicData uri="http://schemas.openxmlformats.org/drawingml/2006/table">
            <a:tbl>
              <a:tblPr/>
              <a:tblGrid>
                <a:gridCol w="432000"/>
                <a:gridCol w="1584360"/>
                <a:gridCol w="2592360"/>
                <a:gridCol w="3106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vocation of the deleg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vocation (Council) possible at any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 62 §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s to delegated a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 (Council) within 3 months (extension of 3 months possibl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B23E-F28E-4BA8-B5FC-8F3310A571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Standing Committee on Construction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81" name=""/>
          <p:cNvGraphicFramePr/>
          <p:nvPr/>
        </p:nvGraphicFramePr>
        <p:xfrm>
          <a:off x="900000" y="1557360"/>
          <a:ext cx="7715520" cy="107964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e of decision 1999/468/EC art 3 &amp; 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ments for members in art 64§3 C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553E-3AAD-41F7-BDB2-247A28EAD5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468360" y="404280"/>
            <a:ext cx="92995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53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A regulation does not need to be transposed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(that, everybody knows!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The CPR needs some work in the MS  before national procedures will be conform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Good luck to everyone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2410920" y="1341360"/>
            <a:ext cx="4038840" cy="453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A09A-5529-449E-83AD-7BED27AB8B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General Regulation Fra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494000" y="333360"/>
          <a:ext cx="7149960" cy="58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333360"/>
                    <a:ext cx="71499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5F96-56B0-4E70-BB8D-DA2781C4C4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General remark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Dates of Application</a:t>
            </a:r>
            <a:r>
              <a:rPr b="0" lang="fr-BE" sz="3200" spc="-1" strike="noStrike">
                <a:solidFill>
                  <a:srgbClr val="ff0066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0066"/>
                </a:solidFill>
                <a:latin typeface="Verdana"/>
              </a:rPr>
              <a:t>2011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201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Disclaim: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ontent of this unformal communication is not necessarily fully endorsed by the Belgian authorities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nly Wording of CPR is correc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296-C35F-4446-A74A-9F7E56DC29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Subsidiarity and BW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Subsidiarity !! Righ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National rules mentioned in 8.6 (EN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and BW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Annex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Right of adopting BW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Making use of modifications of BWRin CP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Oblig of making use of ENh (8.6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CCF-629D-429E-AE6A-F677C74114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BWR and essential characteristic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6" name=""/>
          <p:cNvGraphicFramePr/>
          <p:nvPr/>
        </p:nvGraphicFramePr>
        <p:xfrm>
          <a:off x="900000" y="1557360"/>
          <a:ext cx="7715520" cy="251928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6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rst §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pe of making use of essential characteristics define by Com by 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 Adapting MS requirements accordingly (art 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ond §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dem for threshold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6FEB-B234-4491-BA41-97D6153467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973440" y="277920"/>
            <a:ext cx="96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General principles and use CE mark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1" name=""/>
          <p:cNvGraphicFramePr/>
          <p:nvPr/>
        </p:nvGraphicFramePr>
        <p:xfrm>
          <a:off x="826920" y="1413000"/>
          <a:ext cx="6788160" cy="4614840"/>
        </p:xfrm>
        <a:graphic>
          <a:graphicData uri="http://schemas.openxmlformats.org/drawingml/2006/table">
            <a:tbl>
              <a:tblPr/>
              <a:tblGrid>
                <a:gridCol w="430560"/>
                <a:gridCol w="2787480"/>
                <a:gridCol w="357012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ref to marking attesting conf in DoP other than 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hibit or impede use or making available of CP with a declared performance not in accordance with national require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 prohibit or impede () making available or use of products bearing CE if declared performances correspond to MS require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thods used in Requirements for works in accordance with EN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8839-9ED3-468F-8E45-18263CCCFF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PCP &amp; Stakeholder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7" name=""/>
          <p:cNvGraphicFramePr/>
          <p:nvPr/>
        </p:nvGraphicFramePr>
        <p:xfrm>
          <a:off x="900000" y="1557360"/>
          <a:ext cx="7715520" cy="4613400"/>
        </p:xfrm>
        <a:graphic>
          <a:graphicData uri="http://schemas.openxmlformats.org/drawingml/2006/table">
            <a:tbl>
              <a:tblPr/>
              <a:tblGrid>
                <a:gridCol w="432000"/>
                <a:gridCol w="1727280"/>
                <a:gridCol w="2449440"/>
                <a:gridCol w="310680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C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or m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 Same as 764/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ati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 conflict of inter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Central not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ligations Stakehol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rt 11 to 16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Imposing language for safety instru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To be informed in case of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monstration of C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formity with Do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Receiving info in a languaga easily underst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Imposing the elimination of the risk (hazard ?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ing of a « reasoned request » if CP presents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F26-55D1-48A9-9EAD-D892E15EC9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ENh &amp;EAD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3" name=""/>
          <p:cNvGraphicFramePr/>
          <p:nvPr/>
        </p:nvGraphicFramePr>
        <p:xfrm>
          <a:off x="900000" y="1557360"/>
          <a:ext cx="7715520" cy="413388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C being consulted by Com before request to C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 EN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f MS consider ENh not entirely satisfy mandate use of SCC or 98/ 34 committ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 deci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 E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f MS consider EAD not entirely satisfy demands ./. BWR use of SCC committ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7E9A-B201-4175-A182-348A8D5FB6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5:24:24Z</dcterms:created>
  <dc:creator>Vertessen</dc:creator>
  <dc:description/>
  <dc:language>en-US</dc:language>
  <cp:lastModifiedBy>katsage</cp:lastModifiedBy>
  <dcterms:modified xsi:type="dcterms:W3CDTF">2011-07-01T15:29:13Z</dcterms:modified>
  <cp:revision>16</cp:revision>
  <dc:subject/>
  <dc:title>Diapositive 1</dc:title>
</cp:coreProperties>
</file>