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4A09-C8DD-4C97-BDA7-079BA73476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7868-8F8A-4846-9AEE-A86DA60A6C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FE56-B721-4A2B-B4C5-F6D400578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7663-7FD2-4AB3-8CB6-1A0A57CB6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3985-5CC2-40FA-803B-36DFE6621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57BB-08A7-4D11-AF22-1D10A24BE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FFC95-03C3-489E-B403-7065CE9F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5D37F-5FAA-472E-B212-54E1B1F9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48E3E-7F44-4AA7-9E45-8EEB2894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54611-1233-4ACA-A3BF-8A991B2E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35579-AD71-4958-B5EE-AD3E3B56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B7D1E-A50A-42D3-8CE8-4385FD18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B652A-0C23-4A8D-B310-A6DF0628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BE7C-2ACA-4A77-8240-1BF3B9A28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8ABBA-614F-4B77-8A47-020C8323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B5950-E913-4AE4-8FD9-7F99CD60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3E441-E172-4892-BAC6-DF2C225C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FCA9A-A2FC-4CD0-AD27-AABC4882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D4F84-3BCE-47AD-B49F-D07FD6CF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24983-35F2-4B1E-82E8-E8D5A97E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B1CDB4-E76F-42EB-9760-F6A0C698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8DB99E-27B6-4F9D-AD9E-694AEE40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3BF277-6710-45F6-AAC8-13572862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92FC6E-71D2-4DB8-B7ED-61D910F0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0E97-9749-4293-BFAF-756CED62FD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EDA5CA-58A3-4493-838A-F5507E95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96FF36-176A-4C3F-89F4-231F42FA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85DE70-7D61-44A0-8391-B72D056B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0FEA24-3BC6-413B-A976-B433C24B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5CB2D4-F5C3-42D0-8EBE-6665F9C9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8585B4-6605-4AAD-B8F2-3485E3F7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A2BEFD-605E-435E-8FD0-A1136C88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6CD2F-C1AE-4BBE-BF3D-B6FE72DABF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E24A4-9EB7-4E5B-8146-E569C65EB7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BE929-55E5-453D-B2DE-383BCD841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0031-FE5F-4470-B7FA-B1E547E466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D39E7-97B2-40D9-A0AF-CE6EA63E40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21451-CC76-46E0-B4DD-2F48529A55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FDB80-AFC8-4DDF-916C-58C4C3755A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9E747-DE4A-4DBE-A219-49B1723BD9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C9797-E9E4-4510-9683-42F623A9DB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1D358-D350-4920-AC24-0F22ABCAB7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8BB4B-2569-4851-AE7B-C1C9ABF7EE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430FE-A662-4DC1-A852-F4504A45B7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3E27D-8880-4CE2-B935-0C17044CB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4A53-2DDB-4749-A009-745DAAB29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F3A0-23AF-46CC-A0E4-B25FC88B8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957E-F334-44CD-9651-237314412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3687-1FD1-436D-8524-9869AF073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B520-9669-4065-8EDD-3C26BF12C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D72A-ABB6-46BD-BB94-B6B14720F95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4809-C2C1-4717-93D5-97B7A935EB5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B1C8-89AD-48F8-8092-4FF3A981DC4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7AFB-F47A-4A36-8727-46A8BED0478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781360"/>
            <a:ext cx="807264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ruction Products Regulation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ights and obligations of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7C48-5C2E-4914-A5E9-1EF9BEFC69F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735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vide a clear, complete and reliable information on products placed on the market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Same obligation for all manufacturers (&amp; importers) in Europe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Declaration of performance (DoP) for a product covered by an hEN or an ETA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termination of the “product-type”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Assessment of the product performances in relation to the essential characteristics relevant for the intended use (Recital 28, Articles 4, 11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3" marL="1530720" indent="-223920" algn="just">
              <a:spcBef>
                <a:spcPts val="249"/>
              </a:spcBef>
              <a:buClr>
                <a:srgbClr val="808080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f5f5f"/>
                </a:solidFill>
                <a:latin typeface="Arial"/>
              </a:rPr>
              <a:t>With the use of European methods and involvement of a Notified Body for systems 1+, 1, 2+ et 3 (Annex V) 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mplementation of a FPC in any case, complying with the requirements detailed in hEN/ETA (Annex V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3" marL="1530720" indent="-223920" algn="just">
              <a:spcBef>
                <a:spcPts val="249"/>
              </a:spcBef>
              <a:buClr>
                <a:srgbClr val="808080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f5f5f"/>
                </a:solidFill>
                <a:latin typeface="Arial"/>
              </a:rPr>
              <a:t>Verification of constancy of performances, involving a Notified Body for systems 1+, 1, 2+ (Annex V)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rawn up a DoP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erformances by levels or classes, for each essential characteristic listed in hEN/ETA and relevant for the declared intended use (Art 6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NPD option for characteristics not subject of any regulatory requirement where the product is used, but 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n</a:t>
            </a: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empty DoP (</a:t>
            </a: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Art 6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Reference of the product-type, system of verification of constancy of performance and ref. of hEN/ETA/STD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Unique identification code for the DoP (Traceability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nformation on hazardous substances provided together with the DoP (Art 6.5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Supply the DoP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With each product made available on the market (Art 7.1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Either in paper form or by electronic means (Art 7.1), or using website under conditions to be determined by a delegated act (Art 7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F6C5-EFEC-49AE-AC02-C8B4B694135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Content Placeholder 1" descr=""/>
          <p:cNvPicPr/>
          <p:nvPr/>
        </p:nvPicPr>
        <p:blipFill>
          <a:blip r:embed="rId1"/>
          <a:stretch/>
        </p:blipFill>
        <p:spPr>
          <a:xfrm>
            <a:off x="225360" y="1566720"/>
            <a:ext cx="8759880" cy="487044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7DCC-51B8-4079-B7A6-C6A7D6F8382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14200" y="1456920"/>
            <a:ext cx="87868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claration of Performance (DoP)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ssible derogations: Products individually manufactured or custom-made in a non-series process (Art 5.1), on the construction site (art 5.2), in a traditional manner (Art 5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Use NPD option (no test!) if the product is not regulated where the product is intended to be used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Draw up the DoP on the basis of certificate (or declaration) of conformity (existing CE marking affixed under CPD), for products placed on the market before 01/07/2013 (Art 66.2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termination of Product-type: Simplified procedures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Deemed to satisfy procedure to declare level a class (Art 27.5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Simplified procedures avoiding useless tests: WT/WFT, Shared IT, Cascading (Art 36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Specific procedures possibly used by micro-enterprises turning system 3 into system 4 (Rec 27, Art 37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roducts individually manufactured turning system 3 into system 4 (Art 38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European Technical Assessment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Request an ETA when hENs do not allow to assess the product to have the benefit of CE marking (Art 19)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Renew ETAs already delivered at the end of their validity period, and on the basis of EADs consistent with the current  ETAGs or CUAPS (Recital 21, Art 66.3-4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roduct Contact Points: Inform on the existing regulatory provisions, free of charge (Rec 42-44, Art 1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nformation campaigns for the construction sector, e.g. economic operators and users of products (Rec 54)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7558-CD36-4A50-80A2-1207C06AA4D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Right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katsage</cp:lastModifiedBy>
  <cp:lastPrinted>2000-03-16T10:24:10Z</cp:lastPrinted>
  <dcterms:modified xsi:type="dcterms:W3CDTF">2011-07-01T14:58:12Z</dcterms:modified>
  <cp:revision>596</cp:revision>
  <dc:subject/>
  <dc:title>Aucun titre de diapositive</dc:title>
</cp:coreProperties>
</file>