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46A9-C385-46DE-9FBD-95E33268CE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F84F-4F99-4D4F-9232-BA72D26B9E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69BE-93CF-490F-826B-687CB1699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FAB8-EEC1-4DB7-AC0D-AB5914357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0B34-2E12-4A16-8E7E-C2317D499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8D8E-687F-4470-981E-4677763FA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55038-CF39-4D09-8B34-399A01BC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1E526-6BBD-4C52-B698-23F53505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62C6D-3532-41ED-B44A-895BE4AA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EDF5D-5869-4BF6-A9C6-F9825312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1FC88-24C7-49F5-8A18-5955163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C9706-46A1-4101-9ABF-E1D3260B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9FA6C-367B-436F-B086-09125D22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5C4D-D44A-4030-AAF1-9A343E46A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2B47E-85CF-4D76-95AF-DECE05EE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D3B12-80FF-4C93-9B25-8B4F7F44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8817D-6E15-4BCA-9EA2-20A0D5D0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21E40-49AA-44B0-8ACC-2C87A1CB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E8175-0E30-4BE7-B689-3A1A0302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8A0EE-9B3E-4C24-8288-48CF6409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AE0847-74A7-481E-850A-77CA62FC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ED9CC-EDFC-4FE2-8218-82C063AD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DB3EBC-E367-425E-BB20-4DA35D47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9DFF1-C1DA-49FB-ACF3-AD7E3A0D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81FB-B55A-4CE4-B175-1C28C8C32D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5264A-9C96-4B1F-8A11-DBAA90D7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284A0-A460-4EBB-B171-3560F75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353FDC-4B5C-49CD-A362-EE69B87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AF14B-8248-4365-8E1F-524E003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E10C2-96BB-4370-AB10-345B1A16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B508B-8076-4ABB-A477-566EBD4C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D97F1-B901-4322-9004-8D51ED92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42B80-ABC8-4AE0-9BBC-3BA48CD817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A3925-552D-433B-BF2C-2BE4FA2B3D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D0A73-261A-472F-BCC7-BBB83674E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BDA7-D5CA-495D-A667-A10C20E422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05675-0CDE-488C-9B86-D2068FCF0E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BA67D-38C7-47D8-ADDA-88AEF79431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CDFE4-4F43-41C5-A3A0-FA2C2DD613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3F695-0D9A-4673-99D8-D5BE360D6E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2728B-2271-43FF-B7B5-8C94BCC9D0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536E6-B234-40EF-8F7F-D2AA39CA60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CDAA7-6E76-41F0-8F81-F22FF54DE5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0533C-D91D-410D-B073-D2A7A5378E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7B985-2215-4EEC-A3F9-110B1C9A2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9476-F642-4CE8-BF68-FE2099F37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CF21-7ED0-4D17-A07B-4F43FE7B3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DA30-2BA8-4550-BA39-F04C0A6A9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5B8F-CF8D-43AD-8256-56A749DB5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E5A6-044A-470F-83B7-D8569782A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4F42-2305-4170-A1E2-816EAB8BB4D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EE4D-C79D-446D-B8C8-9E67B90728B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D9D0-0F1B-42BD-8695-22E83B1AE4B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9FD8-49EE-4239-BEEB-253214E0FFC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DF03-7688-42F8-9112-3AE4AF407B8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765-0300-4D3B-A637-EF2F64FC592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to be applied for derogations (Article 5) and public inform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(Article 37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ntact Points: Definition of types of information (free of charge or charged) (Recital 4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579-96BB-452C-8851-CD8B3C3C415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423C-DB47-4A07-9EB4-FA80C3D642B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CBDE-45BA-4D4F-B764-A2D3F916831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018F-30CF-430C-80B6-13D4618ABBE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CF31-12C5-415E-9BAC-21E84680883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6:48Z</dcterms:modified>
  <cp:revision>539</cp:revision>
  <dc:subject/>
  <dc:title>Aucun titre de diapositive</dc:title>
</cp:coreProperties>
</file>