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A14B-6296-49C0-9DEE-E259A68A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8666-D869-4653-A021-111A00B2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FE7-4357-4CDC-B7E2-0710A249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AD2-1DB6-41DD-9A92-4AA80174C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0EA-502E-4661-A70F-62E0870F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A741-3861-41FC-8DDC-4A6816BC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391B-218A-4FA9-A411-1C4B467C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0AE-4AA9-4973-BE5B-5FE5AC9B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D7C-1B05-4724-B05A-4AFE0D52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46C-84B4-4ABE-8813-D235001F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9815-DEF9-4197-8F20-FFE7BF72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E94-AE78-48E0-959A-95967F48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8D7E-B5CE-4234-A828-D5973E604161}" type="datetime">
              <a:rPr b="0" lang="fi-FI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5292-EA9F-4498-BBCF-BACB75EC3E92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ire tests of heating appliances fired by solid fue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Preliminary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PG meeting 12.10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5A3F-E4E0-495B-BEDB-893353CDD288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to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lue gas temperature is for energy efficiency, not to determine fireclass of chimn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ere is a need to determine correct flue gas temperature for chimne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consultant has sent our letter to CEN TC 295 and TC 16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TC 295 has refused to improve its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What to 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o withdraw  these standards from the OJ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o allow that Finland can demand an additional test in order to determine the correct flue gas temperature class of chimney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omething el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ian numeron paikkamerkki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5E35-5DC6-47C2-8909-A9D0846F45CD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at to do with chimneys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EN TC 166 has started to discus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Deficienci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Higher flue gas temperature class than T 600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Durability of thermal insulation material at high temperature (e.g. 500-600 </a:t>
            </a:r>
            <a:r>
              <a:rPr b="0" lang="fi-FI" sz="16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C) for longer perio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Wall thickness of metal flue liners in CE-mark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Thick thermal insulation in the ro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Temperarure  will much higher than  tests where thermal insulation (200 mm)  is us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How to seal chimneys and how to test se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In the roo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On the 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Connection between CE-marking and assembly instruc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There are national  assembly standards and additional  assembly tests in some Member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Reduction of tes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E.g. One chimney type has 14 different mark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097280" indent="-2192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Calculation methods should be develo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ian numeron paikkamerkki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C4FA-37BD-40CA-969A-101938A9C0BF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nnish letter to the Commission (25.5.20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 lot of fire cases related to fireplaces and chimneys including also products with CE-mar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e have studied EN-standards of chimneys and fire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 lot of deficien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EN TC 295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Residential solid fuel burning appliance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and CEN TC 166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Chimneys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 do not discussed with each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re are Finnish tests which gave results that EN-standards are not su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nland is the coldest country in the EU. Heating is need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ED4B-1C20-4C87-BDBF-461AA401884D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st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e wanted to give evidences to support our require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inistry of the Environment has ordered the following tests from VTT which is a notified body under the CP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low heat release fire appliances according to EN 1525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auna stoves according to EN 158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oomheaters fired by solid fuel according to EN 13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re will be a test report in English before the end of 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test program covers aspects related to fireplaces mentioned in our let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8E96-182C-4D4B-A7A8-78589F6CBCFC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Firs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est product = a commercial slow heat release appliance fired by solid fu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est according to EN 15250 </a:t>
            </a:r>
            <a:r>
              <a:rPr b="0" i="1" lang="fi-FI" sz="2400" spc="-1" strike="noStrike">
                <a:solidFill>
                  <a:srgbClr val="000000"/>
                </a:solidFill>
                <a:latin typeface="Calibri"/>
              </a:rPr>
              <a:t>Slow heat release appliances fired by solid fuel:Requirements and test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rstly , normal test= to determine flue gas temperature in CE-marking as required in EN 152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ext test is the safety test but flue gas temperature has also been measured (not required in EN 152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inally an additional heating test (not in EN 1525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Flue draught (red line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6476-FA33-4149-9CD3-C748FC658468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latunnisteen paikkamerkki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CCE7-4FF8-4636-87AE-CF67C6B08D56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23840" y="907920"/>
            <a:ext cx="89121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Bypass device is op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product = the same slow heat release appli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cording to EN 15250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s device is o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s device is to improve igni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ypas device can be used in summertime avoiding hea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C455-CF7C-4015-A509-6BB0F81A96B5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latunnisteen paikkamerkki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6720-155F-4319-AEAD-D52FD082B867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476360" y="83664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98360" y="463680"/>
            <a:ext cx="883764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auna sto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sauna stove = a commercial product on the mark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st according to 158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mperature is 90 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sau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est will be the safety test according to EN 15821 where temperature of flue gas is also measured (not required in EN 1582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ian numeron paikkamerkki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AC44-0B3F-4C6B-969B-49107442B2C4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latunnisteen paikkamerk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Kaavio 1" descr=""/>
          <p:cNvPicPr/>
          <p:nvPr/>
        </p:nvPicPr>
        <p:blipFill>
          <a:blip r:embed="rId1"/>
          <a:stretch/>
        </p:blipFill>
        <p:spPr>
          <a:xfrm>
            <a:off x="-36360" y="615960"/>
            <a:ext cx="9223200" cy="5632560"/>
          </a:xfrm>
          <a:prstGeom prst="rect">
            <a:avLst/>
          </a:prstGeom>
          <a:ln w="0">
            <a:noFill/>
          </a:ln>
        </p:spPr>
      </p:pic>
      <p:sp>
        <p:nvSpPr>
          <p:cNvPr id="73" name="Dian numeron paikkamerkki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F9AA-0058-414A-B152-1ED6650E84D6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latunnisteen paikkamerkki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Matti J. Virta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05:23:36Z</dcterms:created>
  <dc:creator>virtanenmat</dc:creator>
  <dc:description/>
  <dc:language>en-US</dc:language>
  <cp:lastModifiedBy>virtanenmat</cp:lastModifiedBy>
  <dcterms:modified xsi:type="dcterms:W3CDTF">2011-10-11T11:05:06Z</dcterms:modified>
  <cp:revision>31</cp:revision>
  <dc:subject/>
  <dc:title>VTT:n tulisijatestejä</dc:title>
</cp:coreProperties>
</file>