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7406-BF68-4E10-A592-C001AC770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DA38-B560-42F1-AEF3-BDD307270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E2A4-68D3-4875-802F-F4AA804C2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977A-151C-4B1A-B0A2-0AE307583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0D4E-CD2E-48B3-A0CD-ED0D9D79C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F0A3-78CA-4B55-B1FF-F0C304651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2F28-5043-4812-9772-EC75C6D27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D594-6B96-4F1A-8285-021443A62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5544-4A65-469C-A85C-48679FD9F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CA24-F1FB-40CC-A7EF-B15F62098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C3C3-8931-40C3-B5ED-246825286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F434-4C5E-4970-B9C2-52734FF19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A4895-634D-42F9-A111-2E0A06D468B8}" type="datetime">
              <a:rPr b="0" lang="fi-FI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Calibri"/>
              </a:rPr>
              <a:t>Matti J. Virta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7CA04-0EC1-40F1-949E-06749FC0437F}" type="slidenum">
              <a:rPr b="0" lang="fi-F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Fire tests of heating appliances fired by solid fuel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Preliminary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PG meeting 12.10.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ian numeron paikkamerkki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2EA1C-CBC9-4363-8829-3808F1591E22}" type="slidenum">
              <a:rPr b="0" lang="fi-F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latunnisteen paikkamerkki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Calibri"/>
              </a:rPr>
              <a:t>Matti J. Virta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to d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lue gas temperature is for energy efficiency, not to determine fireclass of chimney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ere is a need to determine correct flue gas temperature for chimney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EN consultant has sent our letter to CEN TC 295 and TC 166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EN TC 295 has refused to improve its standar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What to do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o withdraw  these standards from the OJ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o allow that Finland can demand an additional test in order to determine the correct flue gas temperature class of chimney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Something els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Alatunnisteen paikkamerkki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Calibri"/>
              </a:rPr>
              <a:t>Matti J. Virta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ian numeron paikkamerkki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DC047-F992-46EE-9C6D-261B5B5016AC}" type="slidenum">
              <a:rPr b="0" lang="fi-F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at to do with chimneys standa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EN TC 166 has started to discus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Deficiencies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alibri"/>
              </a:rPr>
              <a:t>Higher flue gas temperature class than T 600?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alibri"/>
              </a:rPr>
              <a:t>Durability of thermal insulation material at high temperature (e.g. 500-600 </a:t>
            </a:r>
            <a:r>
              <a:rPr b="0" lang="fi-FI" sz="16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fi-FI" sz="1600" spc="-1" strike="noStrike">
                <a:solidFill>
                  <a:srgbClr val="000000"/>
                </a:solidFill>
                <a:latin typeface="Calibri"/>
              </a:rPr>
              <a:t>C) for longer period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alibri"/>
              </a:rPr>
              <a:t>Wall thickness of metal flue liners in CE-mark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alibri"/>
              </a:rPr>
              <a:t>Thick thermal insulation in the roof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Temperarure  will much higher than  tests where thermal insulation (200 mm)  is us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alibri"/>
              </a:rPr>
              <a:t>How to seal chimneys and how to test sea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In the roo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On the ro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alibri"/>
              </a:rPr>
              <a:t>Connection between CE-marking and assembly instruc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There are national  assembly standards and additional  assembly tests in some Member Sta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alibri"/>
              </a:rPr>
              <a:t>Reduction of tes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E.g. One chimney type has 14 different mark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Calculation methods should be develop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alibri"/>
              </a:rPr>
              <a:t>et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Alatunnisteen paikkamerkki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Calibri"/>
              </a:rPr>
              <a:t>Matti J. Virta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Dian numeron paikkamerkki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F22D7-4843-4F7B-8466-137D00562D36}" type="slidenum">
              <a:rPr b="0" lang="fi-F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nnish letter to the Commission (25.5.201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 lot of fire cases related to fireplaces and chimneys including also products with CE-mar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e have studied EN-standards of chimneys and firepla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 lot of deficienci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EN TC 295 </a:t>
            </a:r>
            <a:r>
              <a:rPr b="0" i="1" lang="fi-FI" sz="2400" spc="-1" strike="noStrike">
                <a:solidFill>
                  <a:srgbClr val="000000"/>
                </a:solidFill>
                <a:latin typeface="Calibri"/>
              </a:rPr>
              <a:t>Residential solid fuel burning appliances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and CEN TC 166 </a:t>
            </a:r>
            <a:r>
              <a:rPr b="0" i="1" lang="fi-FI" sz="2400" spc="-1" strike="noStrike">
                <a:solidFill>
                  <a:srgbClr val="000000"/>
                </a:solidFill>
                <a:latin typeface="Calibri"/>
              </a:rPr>
              <a:t>Chimneys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 do not discussed with each oth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re are Finnish tests which gave results that EN-standards are not suffici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Finland is the coldest country in the EU. Heating is neede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ian numeron paikkamerkki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8CB8D-56B8-4B4F-8390-35F6379F8F22}" type="slidenum">
              <a:rPr b="0" lang="fi-F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latunnisteen paikkamerkki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Calibri"/>
              </a:rPr>
              <a:t>Matti J. Virta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st pro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e wanted to give evidences to support our requiremen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inistry of the Environment has ordered the following tests from VTT which is a notified body under the CP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low heat release fire appliances according to EN 15250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auna stoves according to EN 1582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oomheaters fired by solid fuel according to EN 1324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re will be a test report in English before the end of 20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test program covers aspects related to fireplaces mentioned in our let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ian numeron paikkamerkki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732C4-A949-4340-9104-E3AE5135BC6B}" type="slidenum">
              <a:rPr b="0" lang="fi-F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latunnisteen paikkamerkki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Calibri"/>
              </a:rPr>
              <a:t>Matti J. Virta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Firs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est product = a commercial slow heat release appliance fired by solid fu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est according to EN 15250 </a:t>
            </a:r>
            <a:r>
              <a:rPr b="0" i="1" lang="fi-FI" sz="2400" spc="-1" strike="noStrike">
                <a:solidFill>
                  <a:srgbClr val="000000"/>
                </a:solidFill>
                <a:latin typeface="Calibri"/>
              </a:rPr>
              <a:t>Slow heat release appliances fired by solid fuel:Requirements and test metho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Firstly , normal test= to determine flue gas temperature in CE-marking as required in EN 1525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Next test is the safety test but flue gas temperature has also been measured (not required in EN 1525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Finally an additional heating test (not in EN 1525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Flue draught (red line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ian numeron paikkamerkki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C17AF-ABDE-470B-A791-2DB5AD0E0895}" type="slidenum">
              <a:rPr b="0" lang="fi-F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latunnisteen paikkamerkki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Calibri"/>
              </a:rPr>
              <a:t>Matti J. Virta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latunnisteen paikkamerkki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Calibri"/>
              </a:rPr>
              <a:t>Matti J. Virta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ian numeron paikkamerkki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3FE9F-9468-4A99-9007-EE192B6736D2}" type="slidenum">
              <a:rPr b="0" lang="fi-F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23840" y="907920"/>
            <a:ext cx="891216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Bypass device is op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st product = the same slow heat release appli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cording to EN 15250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ypass device is op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ypass device is to improve igni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ypas device can be used in summertime avoiding heat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Dian numeron paikkamerkki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74028-9AB6-44DD-8EBC-59F7AAD64A23}" type="slidenum">
              <a:rPr b="0" lang="fi-F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latunnisteen paikkamerkki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Calibri"/>
              </a:rPr>
              <a:t>Matti J. Virta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Alatunnisteen paikkamerkki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Calibri"/>
              </a:rPr>
              <a:t>Matti J. Virta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Dian numeron paikkamerkki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B51C7-E8D5-4CB5-AB10-656C4D2226FF}" type="slidenum">
              <a:rPr b="0" lang="fi-F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"/>
          <p:cNvSpPr/>
          <p:nvPr/>
        </p:nvSpPr>
        <p:spPr>
          <a:xfrm>
            <a:off x="1476360" y="836640"/>
            <a:ext cx="59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198360" y="463680"/>
            <a:ext cx="8837640" cy="57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auna sto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st sauna stove = a commercial product on the mark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st according to 1582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mperature is 90 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saun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est will be the safety test according to EN 15821 where temperature of flue gas is also measured (not required in EN 1582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Dian numeron paikkamerkki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078F0-6869-4B1A-A83B-6F3C11C6B3FA}" type="slidenum">
              <a:rPr b="0" lang="fi-F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latunnisteen paikkamerkki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Calibri"/>
              </a:rPr>
              <a:t>Matti J. Virta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Kaavio 1" descr=""/>
          <p:cNvPicPr/>
          <p:nvPr/>
        </p:nvPicPr>
        <p:blipFill>
          <a:blip r:embed="rId1"/>
          <a:stretch/>
        </p:blipFill>
        <p:spPr>
          <a:xfrm>
            <a:off x="-36360" y="615960"/>
            <a:ext cx="9223200" cy="5632560"/>
          </a:xfrm>
          <a:prstGeom prst="rect">
            <a:avLst/>
          </a:prstGeom>
          <a:ln w="0">
            <a:noFill/>
          </a:ln>
        </p:spPr>
      </p:pic>
      <p:sp>
        <p:nvSpPr>
          <p:cNvPr id="73" name="Dian numeron paikkamerkki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587EA-5DC7-4CC8-80BA-B5DC67740A0D}" type="slidenum">
              <a:rPr b="0" lang="fi-F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latunnisteen paikkamerkki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Calibri"/>
              </a:rPr>
              <a:t>Matti J. Virta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6T05:23:36Z</dcterms:created>
  <dc:creator>virtanenmat</dc:creator>
  <dc:description/>
  <dc:language>en-US</dc:language>
  <cp:lastModifiedBy>virtanenmat</cp:lastModifiedBy>
  <dcterms:modified xsi:type="dcterms:W3CDTF">2011-10-11T11:05:06Z</dcterms:modified>
  <cp:revision>31</cp:revision>
  <dc:subject/>
  <dc:title>VTT:n tulisijatestejä</dc:title>
</cp:coreProperties>
</file>