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7B6-BE7B-407B-9738-1F821162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A82-D981-41A3-977F-2298492A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151-3236-4594-9CCD-0137B648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F7C-5A79-4154-91A7-41AA9088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BED-51F1-472F-8F48-5B8C6382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B8D-7CA2-46F7-B09F-16E182B6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D11-589E-49EE-AB67-6F8ADCC5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D77-B5C4-42E3-A1F4-81D9C551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845-421D-4127-B640-E889A300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05B-97A4-443F-9FB3-E5EA0A85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6B3-C768-495B-8251-790D88DD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302-C8E4-4D41-ACE1-808CFB0A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544E-B698-4779-B7F3-F4BA28EF7450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</a:t>
            </a: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2:42Z</dcterms:modified>
  <cp:revision>8</cp:revision>
  <dc:subject/>
  <dc:title>Prezentácia programu PowerPoint</dc:title>
</cp:coreProperties>
</file>