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1FAA-9E74-4B8E-BBA3-B129E973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2ED4-F02B-4DA6-8D72-708E4FC1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49E2-1A88-43CD-9A3B-5DECC7C4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AC0-0AF8-4357-8F99-515B7023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E6D4-1528-4AFB-B262-D863BDAB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30A8-C9F0-4C8A-B58A-F7DEBE42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F73-8BCA-4019-9024-688EDAF7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856-4832-4C87-8EA1-5E38020A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A33B-90F6-429D-8275-C42BB721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7248-38E7-42E8-B9BA-07EE520C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F75-0E19-486A-BF8B-20F2FB49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DF70-99B2-4103-92E9-A98C4243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FA3B-BFC5-4140-A4A6-FE70E9A7969B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nisterstva dopravy Slovenskej republiky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gramu rozvoja bývania</a:t>
            </a: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Gejdošová, Kamila</cp:lastModifiedBy>
  <dcterms:modified xsi:type="dcterms:W3CDTF">2022-12-21T15:02:42Z</dcterms:modified>
  <cp:revision>8</cp:revision>
  <dc:subject/>
  <dc:title>Prezentácia programu PowerPoint</dc:title>
</cp:coreProperties>
</file>