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BAE5-C95A-4C6C-A5D8-19BCBE99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BE8A-5A20-41AA-8599-2E75A7DF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4881-E9C1-4DB0-843D-5A9DCF12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735C-61D1-4BE2-95EF-7F6CABF1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67E4-900D-4CAD-AAD7-D92AD0F0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DA03-2062-4470-8308-324765B9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F80-D9A4-451B-A27A-BD638DBD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452-AAF9-4CD0-A836-D1830C65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022E-3CD0-48E8-9FB1-BF87BA37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187-92CE-4A0C-9DB5-C0914CFA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C96-2317-4667-A338-CA896FA9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1705-D116-410F-82BE-C61DD40A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99C0-1A00-4ED3-B019-A572475B1D00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lokTextu 6"/>
          <p:cNvSpPr/>
          <p:nvPr/>
        </p:nvSpPr>
        <p:spPr>
          <a:xfrm>
            <a:off x="247680" y="230040"/>
            <a:ext cx="11680920" cy="635184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ento nájomný bytový dom bol podporený dotáci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inisterstva dopravy Slovenskej republiky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 rám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gramu rozvoja bývania</a:t>
            </a: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ok podpory: 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6:27:17Z</dcterms:created>
  <dc:creator>Hlaváč, Ondrej</dc:creator>
  <dc:description/>
  <dc:language>en-US</dc:language>
  <cp:lastModifiedBy>Gejdošová, Kamila</cp:lastModifiedBy>
  <dcterms:modified xsi:type="dcterms:W3CDTF">2022-12-21T15:02:42Z</dcterms:modified>
  <cp:revision>8</cp:revision>
  <dc:subject/>
  <dc:title>Prezentácia programu PowerPoint</dc:title>
</cp:coreProperties>
</file>