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D0B-DBBC-4FC8-9788-31246D80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8FF8-889C-4A5A-8C43-66301677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BFA-96BA-4FF5-8046-FD215210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AC09-2E2E-4799-AE59-6EBCC81B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3A53-0D64-46FE-A8D8-96F77331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53DE-C5C0-4ACC-8DCA-42951334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0D34-F479-46CC-908F-6908A3A8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B96-0812-4B1A-9504-74BE2477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D84-4701-4E90-B36F-D26AF338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4AE0-A7F3-42A6-A5F9-DAE0C239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B29E-DFB4-40A5-B256-CEAB3E72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EC8-31DB-4F12-9AB7-22C63278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B902-D0CF-4345-819B-BAF0A24D16C5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nisterstva dopravy Slovenskej republiky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gramu rozvoja bývania</a:t>
            </a: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Gejdošová, Kamila</cp:lastModifiedBy>
  <dcterms:modified xsi:type="dcterms:W3CDTF">2022-12-21T15:02:42Z</dcterms:modified>
  <cp:revision>8</cp:revision>
  <dc:subject/>
  <dc:title>Prezentácia programu PowerPoint</dc:title>
</cp:coreProperties>
</file>