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F95-31C0-4F61-9B11-96B10C90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78CC-C4C6-4762-82F1-4535899F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49D-E4D3-43D7-AE33-33C1C351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EF5-4E34-4288-B4AF-B218306A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BCD-C602-4FC8-9986-780DDD21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14D4-D995-4EEE-B3E3-12069F63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B27-55C3-4C63-9BB7-E13AC20B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BC4-EC58-4794-8F1F-FEB1F974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4170-6799-4AD6-9CD5-9CE641BB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51A-8278-42EA-AD12-1A1209DC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B95-DEEE-4216-9537-EC0ADDFC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E2E-F201-48B3-85B6-3D4EBCBD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2ACE-F20C-4A94-9557-888E15377A68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 úverom z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Štátneho fondu rozvoja bývani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1:57Z</dcterms:modified>
  <cp:revision>8</cp:revision>
  <dc:subject/>
  <dc:title>Prezentácia programu PowerPoint</dc:title>
</cp:coreProperties>
</file>